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ftr" idx="2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 type="sldNum" idx="2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B7AE-5054-4018-A9BB-C64C45A673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DE95-22E9-4DFE-80BB-8298990800F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2E99-9FC6-4128-AE32-EDAF0A2DA1C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7686-F24F-4E56-9C7B-8DE51FCBBF0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7263-E4CB-4D72-8E99-0E689B1734C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2C2A-44E1-4E8E-BBBD-2C2744C351C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42B200-97CE-4F6E-B386-AB6B56881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64BBE0-CA26-4680-B551-C78794D9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5089A2-98E5-4A73-AD54-BF5FDD56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D77EA8-E370-4F7B-97A0-F80FA0F4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A72D49-7F0D-45DD-A906-2E5C3D8D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22D644-12C2-4A29-B36F-24671BEC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E84EA2-FA57-4484-9A25-6C1E6FF1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79B4E0-5B0A-472E-BD94-23DC86E1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31CB6A-B7C2-4486-AFE4-E715C793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F7CBB8-379E-45B0-8527-6FAF399B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107099-6125-4D2C-80CC-A505DBDD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435E80-0A8A-4715-9C88-4F49A9119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4BD4CC-DC36-46F7-ADC6-24A7726AE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DBCB8B-77A4-4AF4-A675-32720AAA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4CBAAF-6A63-442E-973A-EF4DDB8D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45FA7A-75A3-4865-8885-2906480F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007812-DCD4-4948-94E1-D2E17D07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6B6546-9916-4F47-813A-4E212877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B204AB-E7EE-4902-B54F-ABBC5900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B81DC8-DD4B-46C8-A5C0-B257E273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790540-2A01-40FC-98B3-A126615B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7614A6-8288-4574-8368-7FAB0839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214063-B1CC-4774-98B0-22F2B21E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B3FE72-FF0D-4331-B28B-798C1FC6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50CFA9-F2A3-4D6A-8159-C2A6062D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CB694D-8DEE-4C30-8E12-E9E4C78C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7CE4BE-E7FF-4B89-BF8D-D6941EEE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03FA10-8681-4621-9DBF-EE7098BB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D82129-5740-48A2-94ED-2CE932B0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755856-A712-49B5-AB60-683B78DF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D8EA8B-DE75-4A9F-B836-7265156C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5F7743-18FE-4B7F-A513-38E99F16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DA845F-91C2-4183-8E1E-5A81CEB7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E2CC10-011E-4B22-BDFC-165805FE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1FED4F-3180-4EA3-AC82-CC5BC71EE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7E74C2-F964-4EC3-8CAC-E0D8BFC7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DAB5C-CB19-4598-91E6-BB29FDD66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8B750-3717-4D25-9C27-7C3BF4D9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C319A-0678-43E7-AE07-0CE5CBBD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D158E-B124-4D4C-8512-DF3296EB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FE8BF-744D-45E3-BEEA-5FCFA9F5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00496-AC41-4E85-B774-2BE0A3BF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726C3-BA8B-4D40-BA5F-7EDFE26B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BD2E0-2580-47F5-9C9F-1DA9B73C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6B87B-DB7A-41D5-B234-3706C0B1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847FC-876F-4A82-9550-710CF480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CCBF6-7734-4025-9DEF-37FD14EC3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FDF9D-E05E-4227-B4A1-2C7C43FF3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106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BBEB-9CBD-4633-AE74-E0F7601936F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9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0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0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60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60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1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61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8" name="AutoShape 25"/>
            <p:cNvSpPr/>
            <p:nvPr/>
          </p:nvSpPr>
          <p:spPr>
            <a:xfrm rot="16200000">
              <a:off x="7776000" y="66121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5643-6E80-4EE6-AFA0-48D052B9070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1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22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1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3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4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665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6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7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68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669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2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4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75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E1FA-8AB4-4C30-98CD-C831B7711424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72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2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2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2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2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3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3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4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ACCF-E7BA-4FCB-9AED-E074D19C2EF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742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3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4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745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6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47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48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749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0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1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2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3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54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755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9386-A477-4ABA-B661-150DCF44EC2A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80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0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0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80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80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1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81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9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2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D7EA-BDFB-41EA-9DB6-7C68774AD99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2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2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8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8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8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8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2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BA3F-4882-4D98-AE0D-DA368F722E7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5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86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121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577A-7208-41A6-A416-C6DB38AF0EF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5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6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7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9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40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AutoShape 31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8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AE22-E020-418A-A112-51F242F8D068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8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9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9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0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0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1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2A41-59CD-4581-B404-C80AFD66DB3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4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5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5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5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5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6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6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AutoShape 25"/>
            <p:cNvSpPr/>
            <p:nvPr/>
          </p:nvSpPr>
          <p:spPr>
            <a:xfrm rot="16200000">
              <a:off x="7776000" y="66106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6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5E5F-CA47-4846-8C3B-2FA6D8AAA19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71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3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74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5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6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78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9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84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52EE-40C5-4CF2-97FA-3796DB1BB0E1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2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3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AutoShape 25"/>
            <p:cNvSpPr/>
            <p:nvPr/>
          </p:nvSpPr>
          <p:spPr>
            <a:xfrm rot="16200000">
              <a:off x="7776000" y="66106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4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1E02-B1D4-4748-A2A7-1204794DF6C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9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9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9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9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0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0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1" name="AutoShape 25"/>
            <p:cNvSpPr/>
            <p:nvPr/>
          </p:nvSpPr>
          <p:spPr>
            <a:xfrm rot="16200000">
              <a:off x="7776000" y="66106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C82B-9A33-4330-A483-04F36F55231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4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5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5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6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6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6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6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5" name="AutoShape 25"/>
            <p:cNvSpPr/>
            <p:nvPr/>
          </p:nvSpPr>
          <p:spPr>
            <a:xfrm rot="16200000">
              <a:off x="7776000" y="66121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7001-D5E4-4849-9290-370B7C77EF0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78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9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0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481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83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84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85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7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90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91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1B8E-30E6-41DB-A6A0-9075DC7B93BD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3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3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4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54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54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4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54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5" name="AutoShape 25"/>
            <p:cNvSpPr/>
            <p:nvPr/>
          </p:nvSpPr>
          <p:spPr>
            <a:xfrm rot="16200000">
              <a:off x="7776000" y="66121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7935-ED97-41C5-A075-BEAB1C13480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8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97.xml"/><Relationship Id="rId1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97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2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2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2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2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34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163080" cy="2803680"/>
          </a:xfrm>
          <a:prstGeom prst="rect">
            <a:avLst/>
          </a:prstGeom>
          <a:ln w="0">
            <a:noFill/>
          </a:ln>
        </p:spPr>
      </p:pic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9</a:t>
            </a:r>
            <a:r>
              <a:rPr b="1" lang="ko-KR" sz="4000" spc="-1" strike="noStrike">
                <a:solidFill>
                  <a:srgbClr val="c50bbc"/>
                </a:solidFill>
                <a:latin typeface="HY강B"/>
                <a:ea typeface="HY강B"/>
              </a:rPr>
              <a:t>장 노년기의 삶의 이면</a:t>
            </a: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(</a:t>
            </a:r>
            <a:r>
              <a:rPr b="1" lang="ko-KR" sz="4000" spc="-1" strike="noStrike">
                <a:solidFill>
                  <a:srgbClr val="c50bbc"/>
                </a:solidFill>
                <a:latin typeface="HY강B"/>
                <a:ea typeface="HY강B"/>
              </a:rPr>
              <a:t>裏面</a:t>
            </a: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)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7" name="그룹 13"/>
          <p:cNvGrpSpPr/>
          <p:nvPr/>
        </p:nvGrpSpPr>
        <p:grpSpPr>
          <a:xfrm>
            <a:off x="71280" y="0"/>
            <a:ext cx="9001440" cy="6428880"/>
            <a:chOff x="71280" y="0"/>
            <a:chExt cx="9001440" cy="6428880"/>
          </a:xfrm>
        </p:grpSpPr>
        <p:sp>
          <p:nvSpPr>
            <p:cNvPr id="1038" name="AutoShape 2"/>
            <p:cNvSpPr/>
            <p:nvPr/>
          </p:nvSpPr>
          <p:spPr>
            <a:xfrm>
              <a:off x="71280" y="500040"/>
              <a:ext cx="9001440" cy="1142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39" name="그룹 10"/>
            <p:cNvGrpSpPr/>
            <p:nvPr/>
          </p:nvGrpSpPr>
          <p:grpSpPr>
            <a:xfrm>
              <a:off x="213840" y="0"/>
              <a:ext cx="8787240" cy="1640520"/>
              <a:chOff x="213840" y="0"/>
              <a:chExt cx="8787240" cy="1640520"/>
            </a:xfrm>
          </p:grpSpPr>
          <p:sp>
            <p:nvSpPr>
              <p:cNvPr id="1040" name="AutoShape 4"/>
              <p:cNvSpPr/>
              <p:nvPr/>
            </p:nvSpPr>
            <p:spPr>
              <a:xfrm>
                <a:off x="285120" y="0"/>
                <a:ext cx="48578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호스피스의 철학과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41" name="Text Box 6"/>
              <p:cNvSpPr/>
              <p:nvPr/>
            </p:nvSpPr>
            <p:spPr>
              <a:xfrm>
                <a:off x="213840" y="571320"/>
                <a:ext cx="878724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본 철학과 원칙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총체주의 및 인본주의 시상에 기반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02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의 고통 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죽음의 수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와 가족에 대한 자원과 정보제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후 가족의 적응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42" name="AutoShape 2"/>
            <p:cNvSpPr/>
            <p:nvPr/>
          </p:nvSpPr>
          <p:spPr>
            <a:xfrm>
              <a:off x="71280" y="2142720"/>
              <a:ext cx="90014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43" name="그룹 10"/>
            <p:cNvGrpSpPr/>
            <p:nvPr/>
          </p:nvGrpSpPr>
          <p:grpSpPr>
            <a:xfrm>
              <a:off x="213840" y="1714320"/>
              <a:ext cx="8787240" cy="2190960"/>
              <a:chOff x="213840" y="1714320"/>
              <a:chExt cx="8787240" cy="2190960"/>
            </a:xfrm>
          </p:grpSpPr>
          <p:sp>
            <p:nvSpPr>
              <p:cNvPr id="1044" name="AutoShape 4"/>
              <p:cNvSpPr/>
              <p:nvPr/>
            </p:nvSpPr>
            <p:spPr>
              <a:xfrm>
                <a:off x="285120" y="1714320"/>
                <a:ext cx="50724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000" spc="-1" strike="noStrike">
                    <a:solidFill>
                      <a:srgbClr val="ffffff"/>
                    </a:solidFill>
                    <a:latin typeface="HY강B"/>
                  </a:rPr>
                  <a:t>호스피스의 유형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1" lang="ko-KR" sz="2000" spc="-1" strike="noStrike">
                    <a:solidFill>
                      <a:srgbClr val="ffffff"/>
                    </a:solidFill>
                    <a:latin typeface="HY강B"/>
                  </a:rPr>
                  <a:t>대상 및 프로그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45" name="Text Box 6"/>
              <p:cNvSpPr/>
              <p:nvPr/>
            </p:nvSpPr>
            <p:spPr>
              <a:xfrm>
                <a:off x="213840" y="2287080"/>
                <a:ext cx="8787240" cy="16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유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립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맑은 고딕"/>
                    <a:ea typeface="맑은 고딕"/>
                  </a:rPr>
                  <a:t>〮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병동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산재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치병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종이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-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월내로 예견되는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증 완화가 필요한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암치료 등의 효과를 기대하기 어려운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 도움을 받지 못해 호스피스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한 환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호스피스 케어의 주요 서비스 내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접서비스와 간접서비스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5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46" name="AutoShape 2"/>
            <p:cNvSpPr/>
            <p:nvPr/>
          </p:nvSpPr>
          <p:spPr>
            <a:xfrm>
              <a:off x="71280" y="4428720"/>
              <a:ext cx="900144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47" name="그룹 10"/>
            <p:cNvGrpSpPr/>
            <p:nvPr/>
          </p:nvGrpSpPr>
          <p:grpSpPr>
            <a:xfrm>
              <a:off x="213840" y="3928680"/>
              <a:ext cx="8787240" cy="2494800"/>
              <a:chOff x="213840" y="3928680"/>
              <a:chExt cx="8787240" cy="2494800"/>
            </a:xfrm>
          </p:grpSpPr>
          <p:sp>
            <p:nvSpPr>
              <p:cNvPr id="1048" name="AutoShape 4"/>
              <p:cNvSpPr/>
              <p:nvPr/>
            </p:nvSpPr>
            <p:spPr>
              <a:xfrm>
                <a:off x="285120" y="3928680"/>
                <a:ext cx="48578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호스피스 팀의 구성과 역할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49" name="Text Box 6"/>
              <p:cNvSpPr/>
              <p:nvPr/>
            </p:nvSpPr>
            <p:spPr>
              <a:xfrm>
                <a:off x="213840" y="4500360"/>
                <a:ext cx="8787240" cy="19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팀 구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 coordinator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호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상사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약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상심리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사 등의 다분야 전문가와  환자 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봉사자 등의 비전문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 coordinator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케어 계획수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행과 평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도감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정 및 팀성원들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재와 팀의 통합 도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접적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에 대한 상담과 지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가족모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 전문가는 고유 영역의 역할을 담당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그룹 7"/>
          <p:cNvGrpSpPr/>
          <p:nvPr/>
        </p:nvGrpSpPr>
        <p:grpSpPr>
          <a:xfrm>
            <a:off x="0" y="0"/>
            <a:ext cx="9325080" cy="6215040"/>
            <a:chOff x="0" y="0"/>
            <a:chExt cx="9325080" cy="6215040"/>
          </a:xfrm>
        </p:grpSpPr>
        <p:pic>
          <p:nvPicPr>
            <p:cNvPr id="105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72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2" name="AutoShape 7"/>
            <p:cNvSpPr/>
            <p:nvPr/>
          </p:nvSpPr>
          <p:spPr>
            <a:xfrm>
              <a:off x="285480" y="107136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성에 대한 편견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53" name="그룹 20"/>
            <p:cNvGrpSpPr/>
            <p:nvPr/>
          </p:nvGrpSpPr>
          <p:grpSpPr>
            <a:xfrm>
              <a:off x="285480" y="1785960"/>
              <a:ext cx="9039600" cy="4429080"/>
              <a:chOff x="285480" y="1785960"/>
              <a:chExt cx="9039600" cy="4429080"/>
            </a:xfrm>
          </p:grpSpPr>
          <p:sp>
            <p:nvSpPr>
              <p:cNvPr id="1054" name="AutoShape 2"/>
              <p:cNvSpPr/>
              <p:nvPr/>
            </p:nvSpPr>
            <p:spPr>
              <a:xfrm>
                <a:off x="285480" y="1785960"/>
                <a:ext cx="8751240" cy="4429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55" name="Text Box 25"/>
              <p:cNvSpPr/>
              <p:nvPr/>
            </p:nvSpPr>
            <p:spPr>
              <a:xfrm>
                <a:off x="428040" y="1896840"/>
                <a:ext cx="8897040" cy="42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taboo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 해왔으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9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이후 성담론이 본격화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아그라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화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어도 좋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이후 노년기의 성에 대한 관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학술적 연구성과는 미미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인뿐만 아니라 노인복지전문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나 현장 종사자들 역시 노년기 성에 대한 편견은 갖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명 연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증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인구 증가로 노년기 성에 대한 관심 필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성에 대한 편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에게 성은 중요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이 성에 관심을 갖는 것은 비정상적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적 관심을 표현하는 노인은 음란한 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은 성욕이 없고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무성적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無性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은 성적 욕구가 있어도 실제 성행위를 하기에는 허약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56" name="Rectangle 2"/>
            <p:cNvSpPr/>
            <p:nvPr/>
          </p:nvSpPr>
          <p:spPr>
            <a:xfrm>
              <a:off x="1500120" y="21420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년기의 성생활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그룹 10"/>
          <p:cNvGrpSpPr/>
          <p:nvPr/>
        </p:nvGrpSpPr>
        <p:grpSpPr>
          <a:xfrm>
            <a:off x="285840" y="79200"/>
            <a:ext cx="8643960" cy="6278760"/>
            <a:chOff x="285840" y="79200"/>
            <a:chExt cx="8643960" cy="6278760"/>
          </a:xfrm>
        </p:grpSpPr>
        <p:grpSp>
          <p:nvGrpSpPr>
            <p:cNvPr id="1058" name="그룹 11"/>
            <p:cNvGrpSpPr/>
            <p:nvPr/>
          </p:nvGrpSpPr>
          <p:grpSpPr>
            <a:xfrm>
              <a:off x="285840" y="714240"/>
              <a:ext cx="8643960" cy="1857240"/>
              <a:chOff x="285840" y="714240"/>
              <a:chExt cx="8643960" cy="1857240"/>
            </a:xfrm>
          </p:grpSpPr>
          <p:sp>
            <p:nvSpPr>
              <p:cNvPr id="1059" name="AutoShape 2"/>
              <p:cNvSpPr/>
              <p:nvPr/>
            </p:nvSpPr>
            <p:spPr>
              <a:xfrm>
                <a:off x="285840" y="1071360"/>
                <a:ext cx="864396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0" name="Text Box 6"/>
              <p:cNvSpPr/>
              <p:nvPr/>
            </p:nvSpPr>
            <p:spPr>
              <a:xfrm>
                <a:off x="357120" y="1071360"/>
                <a:ext cx="7643880" cy="14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ex, sexuality, gender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세가지 개념을 포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x: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해부학적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생리적 측면의 신체 및 생식기적 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xuality: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관계 등의 성행동과 사회적 성관습을 포괄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gender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출생 이후 사회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환경에 의해 학습된 후천적 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1" name="직사각형 7"/>
              <p:cNvSpPr/>
              <p:nvPr/>
            </p:nvSpPr>
            <p:spPr>
              <a:xfrm>
                <a:off x="285840" y="7142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성의 개념 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62" name="AutoShape 4"/>
            <p:cNvSpPr/>
            <p:nvPr/>
          </p:nvSpPr>
          <p:spPr>
            <a:xfrm>
              <a:off x="357120" y="79200"/>
              <a:ext cx="47149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기의 성적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63" name="그룹 15"/>
            <p:cNvGrpSpPr/>
            <p:nvPr/>
          </p:nvGrpSpPr>
          <p:grpSpPr>
            <a:xfrm>
              <a:off x="285840" y="2705040"/>
              <a:ext cx="8643960" cy="3652920"/>
              <a:chOff x="285840" y="2705040"/>
              <a:chExt cx="8643960" cy="3652920"/>
            </a:xfrm>
          </p:grpSpPr>
          <p:sp>
            <p:nvSpPr>
              <p:cNvPr id="1064" name="AutoShape 2"/>
              <p:cNvSpPr/>
              <p:nvPr/>
            </p:nvSpPr>
            <p:spPr>
              <a:xfrm>
                <a:off x="285840" y="3063960"/>
                <a:ext cx="8643960" cy="329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5" name="Text Box 6"/>
              <p:cNvSpPr/>
              <p:nvPr/>
            </p:nvSpPr>
            <p:spPr>
              <a:xfrm>
                <a:off x="357120" y="3136680"/>
                <a:ext cx="8501400" cy="29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기능의 변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충동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30-40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대 최고조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폐경과 함께 성교시 통증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감 감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충동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5-25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세 최고조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발기와 사정 능력 변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적 기능에 부정적 영향을 미치는 요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생물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장병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관절염 등의 만성질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행위 자체에 대한 불안과 실패공포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스트레스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죄의식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무료함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지나친 음주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사회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적 파트너와의 사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자녀의 재혼 반대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 및 종교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이유로 인한 성적 억압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년기 성에 대한 사회적 편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6" name="직사각형 18"/>
              <p:cNvSpPr/>
              <p:nvPr/>
            </p:nvSpPr>
            <p:spPr>
              <a:xfrm>
                <a:off x="285840" y="27050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성적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그룹 5"/>
          <p:cNvGrpSpPr/>
          <p:nvPr/>
        </p:nvGrpSpPr>
        <p:grpSpPr>
          <a:xfrm>
            <a:off x="285840" y="285840"/>
            <a:ext cx="8786880" cy="6000840"/>
            <a:chOff x="285840" y="285840"/>
            <a:chExt cx="8786880" cy="6000840"/>
          </a:xfrm>
        </p:grpSpPr>
        <p:grpSp>
          <p:nvGrpSpPr>
            <p:cNvPr id="1068" name="그룹 20"/>
            <p:cNvGrpSpPr/>
            <p:nvPr/>
          </p:nvGrpSpPr>
          <p:grpSpPr>
            <a:xfrm>
              <a:off x="357120" y="928800"/>
              <a:ext cx="8715600" cy="5357880"/>
              <a:chOff x="357120" y="928800"/>
              <a:chExt cx="8715600" cy="5357880"/>
            </a:xfrm>
          </p:grpSpPr>
          <p:sp>
            <p:nvSpPr>
              <p:cNvPr id="1069" name="AutoShape 2"/>
              <p:cNvSpPr/>
              <p:nvPr/>
            </p:nvSpPr>
            <p:spPr>
              <a:xfrm>
                <a:off x="357120" y="928800"/>
                <a:ext cx="8644320" cy="5357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0" name="Text Box 25"/>
              <p:cNvSpPr/>
              <p:nvPr/>
            </p:nvSpPr>
            <p:spPr>
              <a:xfrm>
                <a:off x="604440" y="1206360"/>
                <a:ext cx="8468280" cy="46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성에 대한 기존 연구는 많지 않으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사대상 등 조사연구 한계 많음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증가에 따라 성기능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관심과 욕구를 지니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 지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절반 이상이 노년기의 성생활이 중요하다고 생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-70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안적 성행위 포함하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 비율 더 높아질 것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욕구 해결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41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9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안적 성행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1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의 애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기부전 등 신체노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8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 눈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4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감의 쇠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4%)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기부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인용품 등 구입 사용한 경험 있는 경우 각각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/2, 1/5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상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36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우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8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담기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교육 및 상담 필요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58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성문제 해결 과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자신의 성에 대한 태도 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성에 대한 교육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기관의 확대를 통한 재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성교제 및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 상담과 정보제공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성에 대한 의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복지학 등의 체계적 연구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71" name="AutoShape 7"/>
            <p:cNvSpPr/>
            <p:nvPr/>
          </p:nvSpPr>
          <p:spPr>
            <a:xfrm>
              <a:off x="285840" y="285840"/>
              <a:ext cx="48578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년기의 성생활 실태와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2" name="그룹 10"/>
          <p:cNvGrpSpPr/>
          <p:nvPr/>
        </p:nvGrpSpPr>
        <p:grpSpPr>
          <a:xfrm>
            <a:off x="0" y="0"/>
            <a:ext cx="9501120" cy="6357240"/>
            <a:chOff x="0" y="0"/>
            <a:chExt cx="9501120" cy="6357240"/>
          </a:xfrm>
        </p:grpSpPr>
        <p:pic>
          <p:nvPicPr>
            <p:cNvPr id="107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4" name="Rectangle 2"/>
            <p:cNvSpPr/>
            <p:nvPr/>
          </p:nvSpPr>
          <p:spPr>
            <a:xfrm>
              <a:off x="171432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인권과 노인학대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75" name="그룹 34"/>
            <p:cNvGrpSpPr/>
            <p:nvPr/>
          </p:nvGrpSpPr>
          <p:grpSpPr>
            <a:xfrm>
              <a:off x="251280" y="1785600"/>
              <a:ext cx="8678160" cy="4571640"/>
              <a:chOff x="251280" y="1785600"/>
              <a:chExt cx="8678160" cy="4571640"/>
            </a:xfrm>
          </p:grpSpPr>
          <p:sp>
            <p:nvSpPr>
              <p:cNvPr id="1076" name="AutoShape 2"/>
              <p:cNvSpPr/>
              <p:nvPr/>
            </p:nvSpPr>
            <p:spPr>
              <a:xfrm>
                <a:off x="285480" y="2384280"/>
                <a:ext cx="8643960" cy="3972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7" name="AutoShape 4"/>
              <p:cNvSpPr/>
              <p:nvPr/>
            </p:nvSpPr>
            <p:spPr>
              <a:xfrm>
                <a:off x="428040" y="1785600"/>
                <a:ext cx="321480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인권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8" name="Text Box 6"/>
              <p:cNvSpPr/>
              <p:nvPr/>
            </p:nvSpPr>
            <p:spPr>
              <a:xfrm>
                <a:off x="251280" y="2594520"/>
                <a:ext cx="8643960" cy="374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Right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옳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어떤 것을 요구할 자격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 의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옳은 것 요구할 자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권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으로서 갖는 본질적이고 선천적 권리로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 존엄성을 인정받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답게 살아가는 데 필요한 모든 권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00b0f0"/>
                    </a:solidFill>
                    <a:latin typeface="HY강M"/>
                    <a:ea typeface="HY강M"/>
                  </a:rPr>
                  <a:t>청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+2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적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+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대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800" spc="-1" strike="noStrike">
                    <a:solidFill>
                      <a:srgbClr val="00b050"/>
                    </a:solidFill>
                    <a:latin typeface="HY강M"/>
                    <a:ea typeface="HY강M"/>
                  </a:rPr>
                  <a:t>녹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인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이 인간답게 노후생활을 영위할 수 있는 권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인권의 영역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존엄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절차적 권리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시설 생활노인 인권보호지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7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의 노인 인권 보호 소극적 개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제도 미흡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최근 시설인권 관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증진방안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 연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종사자 등의 교육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법적 기반구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성년후견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옴부즈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별금지법 제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관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right-based approach; RBA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에 근거한 노인복지실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역량강화 실천 확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네트워크 구축과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권익옹호사업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079" name="그룹 15"/>
            <p:cNvGrpSpPr/>
            <p:nvPr/>
          </p:nvGrpSpPr>
          <p:grpSpPr>
            <a:xfrm>
              <a:off x="285480" y="785520"/>
              <a:ext cx="8643960" cy="856800"/>
              <a:chOff x="285480" y="785520"/>
              <a:chExt cx="8643960" cy="856800"/>
            </a:xfrm>
          </p:grpSpPr>
          <p:sp>
            <p:nvSpPr>
              <p:cNvPr id="1080" name="AutoShape 2"/>
              <p:cNvSpPr/>
              <p:nvPr/>
            </p:nvSpPr>
            <p:spPr>
              <a:xfrm>
                <a:off x="285480" y="785520"/>
                <a:ext cx="8643960" cy="856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1" name="Text Box 6"/>
              <p:cNvSpPr/>
              <p:nvPr/>
            </p:nvSpPr>
            <p:spPr>
              <a:xfrm>
                <a:off x="428040" y="799920"/>
                <a:ext cx="8286840" cy="76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전통사회 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孝有參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尊親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不辱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能養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vs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현대사회 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ageism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인권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별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권익운동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학대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성년후견제도 등에 대한 관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2" name="그룹 5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sp>
          <p:nvSpPr>
            <p:cNvPr id="1083" name="AutoShape 2"/>
            <p:cNvSpPr/>
            <p:nvPr/>
          </p:nvSpPr>
          <p:spPr>
            <a:xfrm>
              <a:off x="142920" y="928440"/>
              <a:ext cx="885816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84" name="그룹 10"/>
            <p:cNvGrpSpPr/>
            <p:nvPr/>
          </p:nvGrpSpPr>
          <p:grpSpPr>
            <a:xfrm>
              <a:off x="285480" y="142920"/>
              <a:ext cx="8715600" cy="6105960"/>
              <a:chOff x="285480" y="142920"/>
              <a:chExt cx="8715600" cy="6105960"/>
            </a:xfrm>
          </p:grpSpPr>
          <p:sp>
            <p:nvSpPr>
              <p:cNvPr id="1085" name="AutoShape 4"/>
              <p:cNvSpPr/>
              <p:nvPr/>
            </p:nvSpPr>
            <p:spPr>
              <a:xfrm>
                <a:off x="285480" y="142920"/>
                <a:ext cx="414360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차별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6" name="Text Box 6"/>
              <p:cNvSpPr/>
              <p:nvPr/>
            </p:nvSpPr>
            <p:spPr>
              <a:xfrm>
                <a:off x="285480" y="1095480"/>
                <a:ext cx="8715600" cy="515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 사회적 편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별로 인하여 노인은 종속적 지위 전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차별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geism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정관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stereotype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편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prejudice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discrimination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의 용어 사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차별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연령층에 대해 일방적 편견을 갖거나 이에 상응하는 차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행위로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차별의 한 형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차별의 원인적 요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사회적 요인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의 지식과 기술의 낙후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동시장과 부의 분배에서 소외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적 요인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의 보수적 가치관이 현대적 가치와 불일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요인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화의 부정적 측면이 강조되고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강점은 무시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차별의 현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차별이 심각하며 만연해 있다는 연구와 전반적인 노인차별의 수준이 아직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각하지 않다는 연구가 동시에 존재하나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차별 심화에 의견 접근 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고용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복지정책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교육 차별 등 공공부문의 차별 엄존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 스스로도 권리 요구보다는 차별적 사고를 받아들이고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차별에 적응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인차별 완화 방안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스스로의 노력과 제도적 장치의 마련과 연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7" name="그룹 29"/>
          <p:cNvGrpSpPr/>
          <p:nvPr/>
        </p:nvGrpSpPr>
        <p:grpSpPr>
          <a:xfrm>
            <a:off x="179280" y="27000"/>
            <a:ext cx="8964720" cy="6402240"/>
            <a:chOff x="179280" y="27000"/>
            <a:chExt cx="8964720" cy="6402240"/>
          </a:xfrm>
        </p:grpSpPr>
        <p:grpSp>
          <p:nvGrpSpPr>
            <p:cNvPr id="1088" name="그룹 18"/>
            <p:cNvGrpSpPr/>
            <p:nvPr/>
          </p:nvGrpSpPr>
          <p:grpSpPr>
            <a:xfrm>
              <a:off x="179280" y="27000"/>
              <a:ext cx="8964720" cy="984240"/>
              <a:chOff x="179280" y="27000"/>
              <a:chExt cx="8964720" cy="984240"/>
            </a:xfrm>
          </p:grpSpPr>
          <p:sp>
            <p:nvSpPr>
              <p:cNvPr id="1089" name="AutoShape 2"/>
              <p:cNvSpPr/>
              <p:nvPr/>
            </p:nvSpPr>
            <p:spPr>
              <a:xfrm>
                <a:off x="218160" y="571320"/>
                <a:ext cx="881784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0" name="Text Box 25"/>
              <p:cNvSpPr/>
              <p:nvPr/>
            </p:nvSpPr>
            <p:spPr>
              <a:xfrm>
                <a:off x="291960" y="642960"/>
                <a:ext cx="885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인은 권리 찾기를 위한 사회운동을 전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은 소극적 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1" name="AutoShape 4"/>
              <p:cNvSpPr/>
              <p:nvPr/>
            </p:nvSpPr>
            <p:spPr>
              <a:xfrm>
                <a:off x="179280" y="27000"/>
                <a:ext cx="3732120" cy="544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권익운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092" name="그룹 11"/>
            <p:cNvGrpSpPr/>
            <p:nvPr/>
          </p:nvGrpSpPr>
          <p:grpSpPr>
            <a:xfrm>
              <a:off x="214920" y="1000080"/>
              <a:ext cx="8856000" cy="1055520"/>
              <a:chOff x="214920" y="1000080"/>
              <a:chExt cx="8856000" cy="1055520"/>
            </a:xfrm>
          </p:grpSpPr>
          <p:sp>
            <p:nvSpPr>
              <p:cNvPr id="1093" name="AutoShape 2"/>
              <p:cNvSpPr/>
              <p:nvPr/>
            </p:nvSpPr>
            <p:spPr>
              <a:xfrm>
                <a:off x="215640" y="1356480"/>
                <a:ext cx="8855280" cy="669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4" name="Text Box 6"/>
              <p:cNvSpPr/>
              <p:nvPr/>
            </p:nvSpPr>
            <p:spPr>
              <a:xfrm>
                <a:off x="214920" y="1356840"/>
                <a:ext cx="878328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노인의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안정된 삶과 복리증진에 방해가 되는 기존의 사회관계를 변화시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려는 집합적 노력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운동의 하위 유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5" name="직사각형 17"/>
              <p:cNvSpPr/>
              <p:nvPr/>
            </p:nvSpPr>
            <p:spPr>
              <a:xfrm>
                <a:off x="214920" y="1000080"/>
                <a:ext cx="578304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권익운동의 개념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96" name="AutoShape 2"/>
            <p:cNvSpPr/>
            <p:nvPr/>
          </p:nvSpPr>
          <p:spPr>
            <a:xfrm>
              <a:off x="288000" y="2428920"/>
              <a:ext cx="8856000" cy="2500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7" name="Text Box 6"/>
            <p:cNvSpPr/>
            <p:nvPr/>
          </p:nvSpPr>
          <p:spPr>
            <a:xfrm>
              <a:off x="288720" y="2428920"/>
              <a:ext cx="8782200" cy="24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권익운동의 성공 조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기관의 개방성과 안정적인 정치적 제휴 및 정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 결속력 등의 정치적 기회구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탁월한 내적 리더십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강한 내적 결속력과 역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재 노인권익운동은 성공 조건을 갖추지 못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관련단체는 권익옹호 한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미국의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AARP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본의 전국노인클럽연합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럽국가에서는 적극적 권익운동 전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향후 노인권익단체는 노인에게 유리하도록 여론을 유도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정책과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련하여 정치권과 협상을 적극 전개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책형성과 집행과정에 적극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여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에게 불리한 판결을 하는 사법부에 대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척운동 등 역량강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8" name="직사각형 24"/>
            <p:cNvSpPr/>
            <p:nvPr/>
          </p:nvSpPr>
          <p:spPr>
            <a:xfrm>
              <a:off x="215640" y="2071440"/>
              <a:ext cx="57819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권익운동의 가능성과 현실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99" name="그룹 15"/>
            <p:cNvGrpSpPr/>
            <p:nvPr/>
          </p:nvGrpSpPr>
          <p:grpSpPr>
            <a:xfrm>
              <a:off x="288000" y="4929120"/>
              <a:ext cx="8856000" cy="1500120"/>
              <a:chOff x="288000" y="4929120"/>
              <a:chExt cx="8856000" cy="1500120"/>
            </a:xfrm>
          </p:grpSpPr>
          <p:sp>
            <p:nvSpPr>
              <p:cNvPr id="1100" name="AutoShape 2"/>
              <p:cNvSpPr/>
              <p:nvPr/>
            </p:nvSpPr>
            <p:spPr>
              <a:xfrm>
                <a:off x="288000" y="5288040"/>
                <a:ext cx="8856000" cy="1141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1" name="Text Box 6"/>
              <p:cNvSpPr/>
              <p:nvPr/>
            </p:nvSpPr>
            <p:spPr>
              <a:xfrm>
                <a:off x="288360" y="5295600"/>
                <a:ext cx="8855640" cy="111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문제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권리에 대한 의식이 낮고 응집력이 낮은 문제점 등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19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과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베이비붐 세대가 노인이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되면 노인권익운동이 활성화될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것으로 예측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치적 기회구조의 확대 등과 같은 다양한 노력이 요구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20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2" name="직사각형 28"/>
              <p:cNvSpPr/>
              <p:nvPr/>
            </p:nvSpPr>
            <p:spPr>
              <a:xfrm>
                <a:off x="288360" y="4929120"/>
                <a:ext cx="57819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인권익운동의 문제점과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3" name="그룹 29"/>
          <p:cNvGrpSpPr/>
          <p:nvPr/>
        </p:nvGrpSpPr>
        <p:grpSpPr>
          <a:xfrm>
            <a:off x="214200" y="142920"/>
            <a:ext cx="8715600" cy="6165720"/>
            <a:chOff x="214200" y="142920"/>
            <a:chExt cx="8715600" cy="6165720"/>
          </a:xfrm>
        </p:grpSpPr>
        <p:grpSp>
          <p:nvGrpSpPr>
            <p:cNvPr id="1104" name="그룹 18"/>
            <p:cNvGrpSpPr/>
            <p:nvPr/>
          </p:nvGrpSpPr>
          <p:grpSpPr>
            <a:xfrm>
              <a:off x="214200" y="142920"/>
              <a:ext cx="8715600" cy="988920"/>
              <a:chOff x="214200" y="142920"/>
              <a:chExt cx="8715600" cy="988920"/>
            </a:xfrm>
          </p:grpSpPr>
          <p:sp>
            <p:nvSpPr>
              <p:cNvPr id="1105" name="AutoShape 2"/>
              <p:cNvSpPr/>
              <p:nvPr/>
            </p:nvSpPr>
            <p:spPr>
              <a:xfrm>
                <a:off x="217080" y="695880"/>
                <a:ext cx="860688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6" name="Text Box 25"/>
              <p:cNvSpPr/>
              <p:nvPr/>
            </p:nvSpPr>
            <p:spPr>
              <a:xfrm>
                <a:off x="288720" y="763560"/>
                <a:ext cx="864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인권보호를 위한 방안은 성년후견제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 옴부즈맨제도가 대표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7" name="AutoShape 4"/>
              <p:cNvSpPr/>
              <p:nvPr/>
            </p:nvSpPr>
            <p:spPr>
              <a:xfrm>
                <a:off x="214200" y="142920"/>
                <a:ext cx="61581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성년후견제도와 노인복지 옴부즈맨 제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08" name="그룹 11"/>
            <p:cNvGrpSpPr/>
            <p:nvPr/>
          </p:nvGrpSpPr>
          <p:grpSpPr>
            <a:xfrm>
              <a:off x="214200" y="1217520"/>
              <a:ext cx="8715600" cy="5091120"/>
              <a:chOff x="214200" y="1217520"/>
              <a:chExt cx="8715600" cy="5091120"/>
            </a:xfrm>
          </p:grpSpPr>
          <p:sp>
            <p:nvSpPr>
              <p:cNvPr id="1109" name="AutoShape 2"/>
              <p:cNvSpPr/>
              <p:nvPr/>
            </p:nvSpPr>
            <p:spPr>
              <a:xfrm>
                <a:off x="214200" y="1556280"/>
                <a:ext cx="8715600" cy="4752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10" name="Text Box 6"/>
              <p:cNvSpPr/>
              <p:nvPr/>
            </p:nvSpPr>
            <p:spPr>
              <a:xfrm>
                <a:off x="214200" y="1671480"/>
                <a:ext cx="8573040" cy="459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 등의 사유로 판단능력이 상실 또는 불완전한 사람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견인의 도움을 받아 본인의 잔존능력을 이용하여 스스로 일상생활을 유지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 있도록 사회복지서비스 및 재산관리와 같은 사무처리를 지원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이념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결정권 존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잔존능력의 활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화의 원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생활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피후견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 등의 사유로 자신의 행위의 의미나 결과를 합리적으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할 수 있는 능력 등이 결여되어 단독으로 유효한 법률행위를 할 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없는 행위무능력자로 가정법원의 심판을 받는 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성년후견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후견인에게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적인 후견 사무를 하는 사람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근친의 가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외에 법률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인 등의 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가 후견인이 될 수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후견감독인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년후견인의 사무처리를 감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성년후견제도의 유형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정후견제도와 임의후견제도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9-8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정후견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법원이 피후견인의 판단능력을 고려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년후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한정후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후견 등의 유형을 판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의후견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이 미리 후견인을 지정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견내용 등을 공정증서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작성하여 등기하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원에 신청하여 임의후견감독인을 선임하면 효력 발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11" name="직사각형 17"/>
              <p:cNvSpPr/>
              <p:nvPr/>
            </p:nvSpPr>
            <p:spPr>
              <a:xfrm>
                <a:off x="214200" y="121752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성년후견제도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2" name="그룹 11"/>
          <p:cNvGrpSpPr/>
          <p:nvPr/>
        </p:nvGrpSpPr>
        <p:grpSpPr>
          <a:xfrm>
            <a:off x="214200" y="404640"/>
            <a:ext cx="8750520" cy="5890680"/>
            <a:chOff x="214200" y="404640"/>
            <a:chExt cx="8750520" cy="5890680"/>
          </a:xfrm>
        </p:grpSpPr>
        <p:sp>
          <p:nvSpPr>
            <p:cNvPr id="1113" name="AutoShape 2"/>
            <p:cNvSpPr/>
            <p:nvPr/>
          </p:nvSpPr>
          <p:spPr>
            <a:xfrm>
              <a:off x="214200" y="836640"/>
              <a:ext cx="8644320" cy="540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14" name="Text Box 6"/>
            <p:cNvSpPr/>
            <p:nvPr/>
          </p:nvSpPr>
          <p:spPr>
            <a:xfrm>
              <a:off x="391680" y="907920"/>
              <a:ext cx="8573040" cy="53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필요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설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행정지도감독에도 불구하고 부당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법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차별적 서비스 및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인권침해 사례가 발생하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발달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908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스웨덴의 의회옴부즈맨에서 시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암행어사제도는 행정옴부즈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.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국내에서는 아직 노인복지 옴부즈맨 제도 미시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민의 이익을 위하여 정부활동을 점검하고 부적절한 정부활동으로 인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생한 시민의 불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권침해 사례를 조사 보고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충의 해결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돕는 법적 신분이 보장된 공무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민간조직에서도 조직옴부즈맨제도를 활용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당사자형 옴부즈맨도 존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역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도적 권력에 의한 고충의 발견과 조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절한 고충 해결책을 발견하여 조직의 개선노력을 권고하는 역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대리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간창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마지막 의뢰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 옴부즈맨의 권리와 의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326-327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쪽 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행동원칙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독립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립성과 공정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뢰성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공식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고충처리 과정과 절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9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15" name="직사각형 17"/>
            <p:cNvSpPr/>
            <p:nvPr/>
          </p:nvSpPr>
          <p:spPr>
            <a:xfrm>
              <a:off x="214200" y="404640"/>
              <a:ext cx="564372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7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노인복지 옴부즈맨 제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그룹 10"/>
          <p:cNvGrpSpPr/>
          <p:nvPr/>
        </p:nvGrpSpPr>
        <p:grpSpPr>
          <a:xfrm>
            <a:off x="285840" y="79200"/>
            <a:ext cx="9686880" cy="6350040"/>
            <a:chOff x="285840" y="79200"/>
            <a:chExt cx="9686880" cy="6350040"/>
          </a:xfrm>
        </p:grpSpPr>
        <p:grpSp>
          <p:nvGrpSpPr>
            <p:cNvPr id="1117" name="그룹 11"/>
            <p:cNvGrpSpPr/>
            <p:nvPr/>
          </p:nvGrpSpPr>
          <p:grpSpPr>
            <a:xfrm>
              <a:off x="285840" y="713880"/>
              <a:ext cx="9686880" cy="2481120"/>
              <a:chOff x="285840" y="713880"/>
              <a:chExt cx="9686880" cy="2481120"/>
            </a:xfrm>
          </p:grpSpPr>
          <p:sp>
            <p:nvSpPr>
              <p:cNvPr id="1118" name="AutoShape 2"/>
              <p:cNvSpPr/>
              <p:nvPr/>
            </p:nvSpPr>
            <p:spPr>
              <a:xfrm>
                <a:off x="285840" y="1071000"/>
                <a:ext cx="8643960" cy="212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19" name="Text Box 6"/>
              <p:cNvSpPr/>
              <p:nvPr/>
            </p:nvSpPr>
            <p:spPr>
              <a:xfrm>
                <a:off x="357120" y="1071000"/>
                <a:ext cx="9615600" cy="20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buse)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bandonment)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neglect)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착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exploitation)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적절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처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maltreatment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‘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가장 많이 사용되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광의의 학대 개념을 따르는 추세를 반영하여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‘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적절한 처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사용하는 경우 증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가정이나 전문시설의 모든 관계에서 발생하는 노인에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해가 되거나 장애를 일으킬 수 있는 일회성이거나 반복적 행동 또는 적절한 행동의 부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0" name="직사각형 7"/>
              <p:cNvSpPr/>
              <p:nvPr/>
            </p:nvSpPr>
            <p:spPr>
              <a:xfrm>
                <a:off x="285840" y="71388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학대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121" name="AutoShape 4"/>
            <p:cNvSpPr/>
            <p:nvPr/>
          </p:nvSpPr>
          <p:spPr>
            <a:xfrm>
              <a:off x="357120" y="79200"/>
              <a:ext cx="47149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학대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22" name="그룹 15"/>
            <p:cNvGrpSpPr/>
            <p:nvPr/>
          </p:nvGrpSpPr>
          <p:grpSpPr>
            <a:xfrm>
              <a:off x="285840" y="3348000"/>
              <a:ext cx="8643960" cy="3081240"/>
              <a:chOff x="285840" y="3348000"/>
              <a:chExt cx="8643960" cy="3081240"/>
            </a:xfrm>
          </p:grpSpPr>
          <p:sp>
            <p:nvSpPr>
              <p:cNvPr id="1123" name="AutoShape 2"/>
              <p:cNvSpPr/>
              <p:nvPr/>
            </p:nvSpPr>
            <p:spPr>
              <a:xfrm>
                <a:off x="285840" y="3706920"/>
                <a:ext cx="8643960" cy="272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4" name="Text Box 6"/>
              <p:cNvSpPr/>
              <p:nvPr/>
            </p:nvSpPr>
            <p:spPr>
              <a:xfrm>
                <a:off x="357120" y="3714480"/>
                <a:ext cx="8501040" cy="26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의 하위유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인권침해 등으로 구분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9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소에 따라서는 가정내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내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 방임으로 구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협의의 학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로 한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광의의 학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방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학대에 대한 표준적 기준이 합의되지 않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마다 학대의 범주와 하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형이 다른 실정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5" name="직사각형 18"/>
              <p:cNvSpPr/>
              <p:nvPr/>
            </p:nvSpPr>
            <p:spPr>
              <a:xfrm>
                <a:off x="285840" y="334800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학대의 유형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	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grpSp>
        <p:nvGrpSpPr>
          <p:cNvPr id="937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938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9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40" name="Line 9"/>
          <p:cNvSpPr/>
          <p:nvPr/>
        </p:nvSpPr>
        <p:spPr>
          <a:xfrm>
            <a:off x="0" y="3857760"/>
            <a:ext cx="100008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1" name="Line 12"/>
          <p:cNvSpPr/>
          <p:nvPr/>
        </p:nvSpPr>
        <p:spPr>
          <a:xfrm flipV="1">
            <a:off x="0" y="3571920"/>
            <a:ext cx="1000080" cy="2858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2" name="Line 13"/>
          <p:cNvSpPr/>
          <p:nvPr/>
        </p:nvSpPr>
        <p:spPr>
          <a:xfrm flipH="1">
            <a:off x="-360" y="2928960"/>
            <a:ext cx="857160" cy="9288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3" name="Line 64"/>
          <p:cNvSpPr/>
          <p:nvPr/>
        </p:nvSpPr>
        <p:spPr>
          <a:xfrm>
            <a:off x="0" y="3857760"/>
            <a:ext cx="857160" cy="11491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4" name="Line 9"/>
          <p:cNvSpPr/>
          <p:nvPr/>
        </p:nvSpPr>
        <p:spPr>
          <a:xfrm flipV="1">
            <a:off x="0" y="2071800"/>
            <a:ext cx="857160" cy="17143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5" name="AutoShape 7"/>
          <p:cNvSpPr/>
          <p:nvPr/>
        </p:nvSpPr>
        <p:spPr>
          <a:xfrm>
            <a:off x="142920" y="996840"/>
            <a:ext cx="15001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9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년기 삶의 이면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裏面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947" name="그룹 58"/>
          <p:cNvGrpSpPr/>
          <p:nvPr/>
        </p:nvGrpSpPr>
        <p:grpSpPr>
          <a:xfrm>
            <a:off x="642960" y="1571760"/>
            <a:ext cx="7786800" cy="4786200"/>
            <a:chOff x="642960" y="1571760"/>
            <a:chExt cx="7786800" cy="4786200"/>
          </a:xfrm>
        </p:grpSpPr>
        <p:sp>
          <p:nvSpPr>
            <p:cNvPr id="948" name="Rectangle 42"/>
            <p:cNvSpPr/>
            <p:nvPr/>
          </p:nvSpPr>
          <p:spPr>
            <a:xfrm>
              <a:off x="5880960" y="6045480"/>
              <a:ext cx="160920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9" name="AutoShape 4"/>
            <p:cNvSpPr/>
            <p:nvPr/>
          </p:nvSpPr>
          <p:spPr>
            <a:xfrm>
              <a:off x="1404720" y="1571760"/>
              <a:ext cx="6991560" cy="595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의 죽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자살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사별과 애도과정의 이해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50" name="Group 14"/>
            <p:cNvGrpSpPr/>
            <p:nvPr/>
          </p:nvGrpSpPr>
          <p:grpSpPr>
            <a:xfrm>
              <a:off x="642960" y="1624320"/>
              <a:ext cx="681120" cy="635040"/>
              <a:chOff x="642960" y="1624320"/>
              <a:chExt cx="681120" cy="635040"/>
            </a:xfrm>
          </p:grpSpPr>
          <p:sp>
            <p:nvSpPr>
              <p:cNvPr id="951" name="Oval 15"/>
              <p:cNvSpPr/>
              <p:nvPr/>
            </p:nvSpPr>
            <p:spPr>
              <a:xfrm>
                <a:off x="659880" y="162432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52" name="Oval 16"/>
              <p:cNvSpPr/>
              <p:nvPr/>
            </p:nvSpPr>
            <p:spPr>
              <a:xfrm>
                <a:off x="659880" y="1626120"/>
                <a:ext cx="618120" cy="631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5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698760" y="1630080"/>
                <a:ext cx="552240" cy="59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4" name="Text Box 18"/>
              <p:cNvSpPr/>
              <p:nvPr/>
            </p:nvSpPr>
            <p:spPr>
              <a:xfrm>
                <a:off x="642960" y="16318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55" name="Group 14"/>
            <p:cNvGrpSpPr/>
            <p:nvPr/>
          </p:nvGrpSpPr>
          <p:grpSpPr>
            <a:xfrm>
              <a:off x="642960" y="2456640"/>
              <a:ext cx="681120" cy="635040"/>
              <a:chOff x="642960" y="2456640"/>
              <a:chExt cx="681120" cy="635040"/>
            </a:xfrm>
          </p:grpSpPr>
          <p:sp>
            <p:nvSpPr>
              <p:cNvPr id="956" name="Oval 15"/>
              <p:cNvSpPr/>
              <p:nvPr/>
            </p:nvSpPr>
            <p:spPr>
              <a:xfrm>
                <a:off x="659880" y="245664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57" name="Oval 16"/>
              <p:cNvSpPr/>
              <p:nvPr/>
            </p:nvSpPr>
            <p:spPr>
              <a:xfrm>
                <a:off x="659880" y="245844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5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698760" y="246240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9" name="Text Box 18"/>
              <p:cNvSpPr/>
              <p:nvPr/>
            </p:nvSpPr>
            <p:spPr>
              <a:xfrm>
                <a:off x="642960" y="246564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60" name="Group 14"/>
            <p:cNvGrpSpPr/>
            <p:nvPr/>
          </p:nvGrpSpPr>
          <p:grpSpPr>
            <a:xfrm>
              <a:off x="642960" y="3290400"/>
              <a:ext cx="681120" cy="635040"/>
              <a:chOff x="642960" y="3290400"/>
              <a:chExt cx="681120" cy="635040"/>
            </a:xfrm>
          </p:grpSpPr>
          <p:sp>
            <p:nvSpPr>
              <p:cNvPr id="961" name="Oval 15"/>
              <p:cNvSpPr/>
              <p:nvPr/>
            </p:nvSpPr>
            <p:spPr>
              <a:xfrm>
                <a:off x="659880" y="329040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62" name="Oval 16"/>
              <p:cNvSpPr/>
              <p:nvPr/>
            </p:nvSpPr>
            <p:spPr>
              <a:xfrm>
                <a:off x="659880" y="329220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6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698760" y="329616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4" name="Text Box 18"/>
              <p:cNvSpPr/>
              <p:nvPr/>
            </p:nvSpPr>
            <p:spPr>
              <a:xfrm>
                <a:off x="642960" y="329400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65" name="Group 14"/>
            <p:cNvGrpSpPr/>
            <p:nvPr/>
          </p:nvGrpSpPr>
          <p:grpSpPr>
            <a:xfrm>
              <a:off x="642960" y="4123080"/>
              <a:ext cx="681120" cy="635040"/>
              <a:chOff x="642960" y="4123080"/>
              <a:chExt cx="681120" cy="635040"/>
            </a:xfrm>
          </p:grpSpPr>
          <p:sp>
            <p:nvSpPr>
              <p:cNvPr id="966" name="Oval 15"/>
              <p:cNvSpPr/>
              <p:nvPr/>
            </p:nvSpPr>
            <p:spPr>
              <a:xfrm>
                <a:off x="659880" y="412308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67" name="Oval 16"/>
              <p:cNvSpPr/>
              <p:nvPr/>
            </p:nvSpPr>
            <p:spPr>
              <a:xfrm>
                <a:off x="659880" y="412488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6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698760" y="412884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9" name="Text Box 18"/>
              <p:cNvSpPr/>
              <p:nvPr/>
            </p:nvSpPr>
            <p:spPr>
              <a:xfrm>
                <a:off x="642960" y="41266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70" name="Group 14"/>
            <p:cNvGrpSpPr/>
            <p:nvPr/>
          </p:nvGrpSpPr>
          <p:grpSpPr>
            <a:xfrm>
              <a:off x="642960" y="4936680"/>
              <a:ext cx="681120" cy="635040"/>
              <a:chOff x="642960" y="4936680"/>
              <a:chExt cx="681120" cy="635040"/>
            </a:xfrm>
          </p:grpSpPr>
          <p:sp>
            <p:nvSpPr>
              <p:cNvPr id="971" name="Oval 15"/>
              <p:cNvSpPr/>
              <p:nvPr/>
            </p:nvSpPr>
            <p:spPr>
              <a:xfrm>
                <a:off x="659880" y="493668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72" name="Oval 16"/>
              <p:cNvSpPr/>
              <p:nvPr/>
            </p:nvSpPr>
            <p:spPr>
              <a:xfrm>
                <a:off x="659880" y="493848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7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698760" y="494244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4" name="Text Box 18"/>
              <p:cNvSpPr/>
              <p:nvPr/>
            </p:nvSpPr>
            <p:spPr>
              <a:xfrm>
                <a:off x="642960" y="49402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75" name="AutoShape 4"/>
            <p:cNvSpPr/>
            <p:nvPr/>
          </p:nvSpPr>
          <p:spPr>
            <a:xfrm>
              <a:off x="1438200" y="2441520"/>
              <a:ext cx="6991560" cy="598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호스피스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(hospice)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6" name="AutoShape 4"/>
            <p:cNvSpPr/>
            <p:nvPr/>
          </p:nvSpPr>
          <p:spPr>
            <a:xfrm>
              <a:off x="1422360" y="3274920"/>
              <a:ext cx="6991560" cy="599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성기능 변화와 성생활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7" name="AutoShape 4"/>
            <p:cNvSpPr/>
            <p:nvPr/>
          </p:nvSpPr>
          <p:spPr>
            <a:xfrm>
              <a:off x="1438200" y="4106880"/>
              <a:ext cx="6991560" cy="599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 인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차별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학대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8" name="AutoShape 4"/>
            <p:cNvSpPr/>
            <p:nvPr/>
          </p:nvSpPr>
          <p:spPr>
            <a:xfrm>
              <a:off x="1438200" y="4938840"/>
              <a:ext cx="6991560" cy="603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1d528d"/>
                </a:gs>
                <a:gs pos="100000">
                  <a:srgbClr val="8c3d91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의 정보화 능력과 노년공학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79" name="Group 14"/>
            <p:cNvGrpSpPr/>
            <p:nvPr/>
          </p:nvGrpSpPr>
          <p:grpSpPr>
            <a:xfrm>
              <a:off x="642960" y="5722560"/>
              <a:ext cx="681120" cy="635040"/>
              <a:chOff x="642960" y="5722560"/>
              <a:chExt cx="681120" cy="635040"/>
            </a:xfrm>
          </p:grpSpPr>
          <p:sp>
            <p:nvSpPr>
              <p:cNvPr id="980" name="Oval 15"/>
              <p:cNvSpPr/>
              <p:nvPr/>
            </p:nvSpPr>
            <p:spPr>
              <a:xfrm>
                <a:off x="659880" y="572256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81" name="Oval 16"/>
              <p:cNvSpPr/>
              <p:nvPr/>
            </p:nvSpPr>
            <p:spPr>
              <a:xfrm>
                <a:off x="659880" y="572436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82" name="Picture 17" descr="알"/>
              <p:cNvPicPr/>
              <p:nvPr/>
            </p:nvPicPr>
            <p:blipFill>
              <a:blip r:embed="rId7"/>
              <a:stretch/>
            </p:blipFill>
            <p:spPr>
              <a:xfrm>
                <a:off x="698760" y="572832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3" name="Text Box 18"/>
              <p:cNvSpPr/>
              <p:nvPr/>
            </p:nvSpPr>
            <p:spPr>
              <a:xfrm>
                <a:off x="642960" y="572616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Ⅵ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84" name="AutoShape 4"/>
            <p:cNvSpPr/>
            <p:nvPr/>
          </p:nvSpPr>
          <p:spPr>
            <a:xfrm>
              <a:off x="1438200" y="5724720"/>
              <a:ext cx="6991560" cy="603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생활안전과 범죄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85" name="Line 9"/>
          <p:cNvSpPr/>
          <p:nvPr/>
        </p:nvSpPr>
        <p:spPr>
          <a:xfrm>
            <a:off x="0" y="3857760"/>
            <a:ext cx="785880" cy="2000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그룹 18"/>
          <p:cNvGrpSpPr/>
          <p:nvPr/>
        </p:nvGrpSpPr>
        <p:grpSpPr>
          <a:xfrm>
            <a:off x="285840" y="500040"/>
            <a:ext cx="8694720" cy="5857920"/>
            <a:chOff x="285840" y="500040"/>
            <a:chExt cx="8694720" cy="5857920"/>
          </a:xfrm>
        </p:grpSpPr>
        <p:sp>
          <p:nvSpPr>
            <p:cNvPr id="1127" name="AutoShape 2"/>
            <p:cNvSpPr/>
            <p:nvPr/>
          </p:nvSpPr>
          <p:spPr>
            <a:xfrm>
              <a:off x="285840" y="928440"/>
              <a:ext cx="869472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8" name="Text Box 6"/>
            <p:cNvSpPr/>
            <p:nvPr/>
          </p:nvSpPr>
          <p:spPr>
            <a:xfrm>
              <a:off x="468360" y="1000080"/>
              <a:ext cx="8512200" cy="53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인구사회적 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교육수준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 없이 자녀와 동거하는 노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건강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경제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심리적 기능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ADL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지기능이 낮은 노인→ 부양스트레스→ 학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여유가 없는 노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학습된 무기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낮은 자존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생을 실패로 규정하고 타인에 불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3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가족 상황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와 심리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별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이나 유기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성 부양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&gt;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&gt;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의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적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수준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무절제하고 충동적 성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장애가 있는 부양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양 스트레스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전에 관계가 원만치 못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의 결속과 지지가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가족학대가 있는 경우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사회관계망 및 사회문화적 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공식적 관계망과의 관계가 나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지 수준이 낮을수록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서비스 체계 미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차별주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강한 가족주의의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9" name="직사각형 4"/>
            <p:cNvSpPr/>
            <p:nvPr/>
          </p:nvSpPr>
          <p:spPr>
            <a:xfrm>
              <a:off x="285840" y="500040"/>
              <a:ext cx="39448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학대의 위험요인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0" name="그룹 11"/>
          <p:cNvGrpSpPr/>
          <p:nvPr/>
        </p:nvGrpSpPr>
        <p:grpSpPr>
          <a:xfrm>
            <a:off x="214200" y="360360"/>
            <a:ext cx="8715600" cy="5926320"/>
            <a:chOff x="214200" y="360360"/>
            <a:chExt cx="8715600" cy="5926320"/>
          </a:xfrm>
        </p:grpSpPr>
        <p:sp>
          <p:nvSpPr>
            <p:cNvPr id="1131" name="AutoShape 2"/>
            <p:cNvSpPr/>
            <p:nvPr/>
          </p:nvSpPr>
          <p:spPr>
            <a:xfrm>
              <a:off x="214200" y="857160"/>
              <a:ext cx="871560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32" name="Text Box 6"/>
            <p:cNvSpPr/>
            <p:nvPr/>
          </p:nvSpPr>
          <p:spPr>
            <a:xfrm>
              <a:off x="356760" y="907920"/>
              <a:ext cx="8573040" cy="49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80000"/>
                </a:lnSpc>
                <a:spcBef>
                  <a:spcPts val="799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학대 발생 건수가 지속적으로 증가하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복지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020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노인실태조사에 따르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9.9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 학대 경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서적 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적 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학대 등의 순으로 학대 경험 많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농어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 없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많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교육과 소득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활동 참여 않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ADL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한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있는 경우 피학대 위험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20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노인학대건수는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6,259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복학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57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학대 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9-10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재학대 건수는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614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건 전체학대의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9.8%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차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학대행위자는 아들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34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32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9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자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3%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대부분 가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구성원이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종사자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3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외부인은 소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33" name="직사각형 7"/>
            <p:cNvSpPr/>
            <p:nvPr/>
          </p:nvSpPr>
          <p:spPr>
            <a:xfrm>
              <a:off x="285480" y="36036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학대 실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그룹 17"/>
          <p:cNvGrpSpPr/>
          <p:nvPr/>
        </p:nvGrpSpPr>
        <p:grpSpPr>
          <a:xfrm>
            <a:off x="214200" y="71280"/>
            <a:ext cx="9037800" cy="6143400"/>
            <a:chOff x="214200" y="71280"/>
            <a:chExt cx="9037800" cy="6143400"/>
          </a:xfrm>
        </p:grpSpPr>
        <p:sp>
          <p:nvSpPr>
            <p:cNvPr id="1135" name="직사각형 19"/>
            <p:cNvSpPr/>
            <p:nvPr/>
          </p:nvSpPr>
          <p:spPr>
            <a:xfrm>
              <a:off x="285480" y="71280"/>
              <a:ext cx="564372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Clr>
                  <a:srgbClr val="0099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36" name="그룹 15"/>
            <p:cNvGrpSpPr/>
            <p:nvPr/>
          </p:nvGrpSpPr>
          <p:grpSpPr>
            <a:xfrm>
              <a:off x="214200" y="356760"/>
              <a:ext cx="9037800" cy="5857920"/>
              <a:chOff x="214200" y="356760"/>
              <a:chExt cx="9037800" cy="5857920"/>
            </a:xfrm>
          </p:grpSpPr>
          <p:sp>
            <p:nvSpPr>
              <p:cNvPr id="1137" name="AutoShape 2"/>
              <p:cNvSpPr/>
              <p:nvPr/>
            </p:nvSpPr>
            <p:spPr>
              <a:xfrm>
                <a:off x="214200" y="853560"/>
                <a:ext cx="8715240" cy="5358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38" name="Text Box 6"/>
              <p:cNvSpPr/>
              <p:nvPr/>
            </p:nvSpPr>
            <p:spPr>
              <a:xfrm>
                <a:off x="464760" y="983880"/>
                <a:ext cx="8787240" cy="523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 개인차원의 대응방안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존성 경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능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과 사회활동 적극 참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교육을 받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시 은폐보다는 적극적 원조요청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가족 차원의 대응방안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교교육을 통한 가족의 노인이해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자의 스트레스나 성격문제 해결을 위한 상담과 치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부담 경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알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적 지원 등의 가족서비스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사회적 차원의 대응방안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홍보와 사회교육을 통한 노인학대에 대한 인식 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금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고의무 및 보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긴급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응급조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기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적 조치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피해자에 대한 보건의료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담 및 치료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된 노인에 대한 부양비 구상권 제도 적극 실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행위자에 대한 처벌과 치료 및 보호서비스의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학대 옴부즈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ombudsman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도 도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39" name="직사각형 14"/>
              <p:cNvSpPr/>
              <p:nvPr/>
            </p:nvSpPr>
            <p:spPr>
              <a:xfrm>
                <a:off x="285480" y="35676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인학대 대응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그룹 8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114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2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정보화와 노년공학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43" name="그룹 21"/>
            <p:cNvGrpSpPr/>
            <p:nvPr/>
          </p:nvGrpSpPr>
          <p:grpSpPr>
            <a:xfrm>
              <a:off x="285480" y="714240"/>
              <a:ext cx="8715600" cy="5643720"/>
              <a:chOff x="285480" y="714240"/>
              <a:chExt cx="8715600" cy="5643720"/>
            </a:xfrm>
          </p:grpSpPr>
          <p:sp>
            <p:nvSpPr>
              <p:cNvPr id="1144" name="AutoShape 2"/>
              <p:cNvSpPr/>
              <p:nvPr/>
            </p:nvSpPr>
            <p:spPr>
              <a:xfrm>
                <a:off x="285480" y="1357200"/>
                <a:ext cx="8715600" cy="500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1145" name="그룹 10"/>
              <p:cNvGrpSpPr/>
              <p:nvPr/>
            </p:nvGrpSpPr>
            <p:grpSpPr>
              <a:xfrm>
                <a:off x="356760" y="714240"/>
                <a:ext cx="8573040" cy="5317200"/>
                <a:chOff x="356760" y="714240"/>
                <a:chExt cx="8573040" cy="5317200"/>
              </a:xfrm>
            </p:grpSpPr>
            <p:sp>
              <p:nvSpPr>
                <p:cNvPr id="1146" name="AutoShape 4"/>
                <p:cNvSpPr/>
                <p:nvPr/>
              </p:nvSpPr>
              <p:spPr>
                <a:xfrm>
                  <a:off x="356760" y="714240"/>
                  <a:ext cx="3286440" cy="571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의 정보화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147" name="Text Box 6"/>
                <p:cNvSpPr/>
                <p:nvPr/>
              </p:nvSpPr>
              <p:spPr>
                <a:xfrm>
                  <a:off x="428040" y="1493640"/>
                  <a:ext cx="8501760" cy="453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용기회제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빈곤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교육기회의 부재로 인하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지식사회에서 다수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 노인들이 부적응을 경험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의 정보화 인프라 구축으로 노인의 정보화에 대한 인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활용능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 접근성이 향상되고 있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터넷 이용률 조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92%, 7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0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 지속적 증가 추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문자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81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동영상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51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검색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8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음악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6%, SNS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3%,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검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3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게임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6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온라인쇼핑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8%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도 이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스마트폰 보유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56%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복지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2020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여성노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노인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수준 낮은 노인의 전자기기 활용률 낮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정보화 역량이 강화되고 있으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역량 격차 개선은 미미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부는 노인에 대한 정보화 교육의 강화를 고령사회에 대응한 중요한 국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실천전략으로 선정하여 다각적 노력을 전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들의 정보 접근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활용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교육 욕구 등에 대한 체계적 연구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선행되어야 할 것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8" name="그룹 14"/>
          <p:cNvGrpSpPr/>
          <p:nvPr/>
        </p:nvGrpSpPr>
        <p:grpSpPr>
          <a:xfrm>
            <a:off x="250920" y="0"/>
            <a:ext cx="8750160" cy="6930360"/>
            <a:chOff x="250920" y="0"/>
            <a:chExt cx="8750160" cy="6930360"/>
          </a:xfrm>
        </p:grpSpPr>
        <p:grpSp>
          <p:nvGrpSpPr>
            <p:cNvPr id="1149" name="그룹 11"/>
            <p:cNvGrpSpPr/>
            <p:nvPr/>
          </p:nvGrpSpPr>
          <p:grpSpPr>
            <a:xfrm>
              <a:off x="285120" y="500040"/>
              <a:ext cx="8715960" cy="3458880"/>
              <a:chOff x="285120" y="500040"/>
              <a:chExt cx="8715960" cy="3458880"/>
            </a:xfrm>
          </p:grpSpPr>
          <p:sp>
            <p:nvSpPr>
              <p:cNvPr id="1150" name="AutoShape 2"/>
              <p:cNvSpPr/>
              <p:nvPr/>
            </p:nvSpPr>
            <p:spPr>
              <a:xfrm>
                <a:off x="285120" y="857160"/>
                <a:ext cx="8644680" cy="3072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1" name="Text Box 6"/>
              <p:cNvSpPr/>
              <p:nvPr/>
            </p:nvSpPr>
            <p:spPr>
              <a:xfrm>
                <a:off x="285480" y="857160"/>
                <a:ext cx="8715600" cy="31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공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간의 최적화를 추구하는 학문분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공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gerontechnology)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일상생활에서 일어나는 여러 가지 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적 문제를 공학기술을 이용하여 해결함으로써 노인과 노인 부양자의 최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활을 추구하는 응용과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연구에 필요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술제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저하예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역할 개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수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약화를 보완 또는 대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활동 원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부터 시작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8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처음으로 노년공학이란 용어 사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국제노년공학회가 개최되었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의 발전과 함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공학이 활성화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2" name="직사각형 4"/>
              <p:cNvSpPr/>
              <p:nvPr/>
            </p:nvSpPr>
            <p:spPr>
              <a:xfrm>
                <a:off x="285480" y="50004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년공학의 개념과 발달</a:t>
                </a:r>
                <a:r>
                  <a:rPr b="0" lang="en-US" sz="2300" spc="-1" strike="noStrike">
                    <a:solidFill>
                      <a:srgbClr val="c00000"/>
                    </a:solidFill>
                    <a:latin typeface="Arial"/>
                  </a:rPr>
                  <a:t>	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153" name="AutoShape 4"/>
            <p:cNvSpPr/>
            <p:nvPr/>
          </p:nvSpPr>
          <p:spPr>
            <a:xfrm>
              <a:off x="357120" y="0"/>
              <a:ext cx="32144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공학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54" name="그룹 11"/>
            <p:cNvGrpSpPr/>
            <p:nvPr/>
          </p:nvGrpSpPr>
          <p:grpSpPr>
            <a:xfrm>
              <a:off x="250920" y="4000680"/>
              <a:ext cx="8678880" cy="2929680"/>
              <a:chOff x="250920" y="4000680"/>
              <a:chExt cx="8678880" cy="2929680"/>
            </a:xfrm>
          </p:grpSpPr>
          <p:sp>
            <p:nvSpPr>
              <p:cNvPr id="1155" name="AutoShape 2"/>
              <p:cNvSpPr/>
              <p:nvPr/>
            </p:nvSpPr>
            <p:spPr>
              <a:xfrm>
                <a:off x="285120" y="4358160"/>
                <a:ext cx="8644680" cy="2000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6" name="Text Box 6"/>
              <p:cNvSpPr/>
              <p:nvPr/>
            </p:nvSpPr>
            <p:spPr>
              <a:xfrm>
                <a:off x="250920" y="4365720"/>
                <a:ext cx="8572680" cy="25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활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보통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 등 매우 다양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1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첨단기술 활용하여 개발 가능한 복지용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스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은 다양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내 개발 사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인을 위한 간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용 시스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4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독거노인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맑은 고딕"/>
                    <a:ea typeface="맑은 고딕"/>
                  </a:rPr>
                  <a:t>〮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장애인 응급안전안심서비스 시스템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5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인공지능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(AI)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사물인터넷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(IoT)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로봇 등을 이용한 노인돌봄 장비 개발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e2947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e2947"/>
                  </a:buClr>
                  <a:buFont typeface="HY강M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7" name="직사각형 9"/>
              <p:cNvSpPr/>
              <p:nvPr/>
            </p:nvSpPr>
            <p:spPr>
              <a:xfrm>
                <a:off x="285840" y="400068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년공학의 관심분야와 실제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그룹 8"/>
          <p:cNvGrpSpPr/>
          <p:nvPr/>
        </p:nvGrpSpPr>
        <p:grpSpPr>
          <a:xfrm>
            <a:off x="0" y="0"/>
            <a:ext cx="9358200" cy="6215040"/>
            <a:chOff x="0" y="0"/>
            <a:chExt cx="9358200" cy="6215040"/>
          </a:xfrm>
        </p:grpSpPr>
        <p:pic>
          <p:nvPicPr>
            <p:cNvPr id="115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0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6.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노인 안전과 범죄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61" name="그룹 21"/>
            <p:cNvGrpSpPr/>
            <p:nvPr/>
          </p:nvGrpSpPr>
          <p:grpSpPr>
            <a:xfrm>
              <a:off x="285480" y="714240"/>
              <a:ext cx="8858160" cy="5500800"/>
              <a:chOff x="285480" y="714240"/>
              <a:chExt cx="8858160" cy="5500800"/>
            </a:xfrm>
          </p:grpSpPr>
          <p:sp>
            <p:nvSpPr>
              <p:cNvPr id="1162" name="AutoShape 2"/>
              <p:cNvSpPr/>
              <p:nvPr/>
            </p:nvSpPr>
            <p:spPr>
              <a:xfrm>
                <a:off x="285480" y="1071360"/>
                <a:ext cx="8715600" cy="5143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1163" name="그룹 10"/>
              <p:cNvGrpSpPr/>
              <p:nvPr/>
            </p:nvGrpSpPr>
            <p:grpSpPr>
              <a:xfrm>
                <a:off x="356760" y="714240"/>
                <a:ext cx="8786880" cy="5470560"/>
                <a:chOff x="356760" y="714240"/>
                <a:chExt cx="8786880" cy="5470560"/>
              </a:xfrm>
            </p:grpSpPr>
            <p:sp>
              <p:nvSpPr>
                <p:cNvPr id="1164" name="AutoShape 4"/>
                <p:cNvSpPr/>
                <p:nvPr/>
              </p:nvSpPr>
              <p:spPr>
                <a:xfrm>
                  <a:off x="356760" y="714240"/>
                  <a:ext cx="392760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 안전사고와 교통사고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165" name="Text Box 6"/>
                <p:cNvSpPr/>
                <p:nvPr/>
              </p:nvSpPr>
              <p:spPr>
                <a:xfrm>
                  <a:off x="428040" y="1214280"/>
                  <a:ext cx="8715600" cy="497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정내 안전사고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0.5%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간 낙상사고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미끄러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하지근력 약화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는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7.2%,  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독거노인 고독사에 대한 관심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가운전 노인이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2%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시력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판단력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반응속도 저하로 운전에 애로 발생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교통사고 실태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통사고 건수는 연간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45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으로 전체의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8%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도이며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망자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,523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명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상자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천여명으로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교통사고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자가운전자의 증가로 노인교통사고 위험은 더욱 높아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대응방안</a:t>
                  </a:r>
                  <a:r>
                    <a:rPr b="1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자 배려 대중교통 이용 및 보행환경 개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횡단보도 보행신호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체계 개선 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,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친화적 교통환경조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보호구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silver zone, 30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㎞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서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반적 교통안전시스템 구축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운전면허 반환 보상강화 등이 요구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6" name="그룹 17"/>
          <p:cNvGrpSpPr/>
          <p:nvPr/>
        </p:nvGrpSpPr>
        <p:grpSpPr>
          <a:xfrm>
            <a:off x="0" y="71280"/>
            <a:ext cx="9001080" cy="6643800"/>
            <a:chOff x="0" y="71280"/>
            <a:chExt cx="9001080" cy="6643800"/>
          </a:xfrm>
        </p:grpSpPr>
        <p:sp>
          <p:nvSpPr>
            <p:cNvPr id="1167" name="AutoShape 4"/>
            <p:cNvSpPr/>
            <p:nvPr/>
          </p:nvSpPr>
          <p:spPr>
            <a:xfrm>
              <a:off x="357120" y="71280"/>
              <a:ext cx="37148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 범죄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68" name="그룹 12"/>
            <p:cNvGrpSpPr/>
            <p:nvPr/>
          </p:nvGrpSpPr>
          <p:grpSpPr>
            <a:xfrm>
              <a:off x="0" y="5715000"/>
              <a:ext cx="8501040" cy="1000080"/>
              <a:chOff x="0" y="5715000"/>
              <a:chExt cx="8501040" cy="1000080"/>
            </a:xfrm>
          </p:grpSpPr>
          <p:pic>
            <p:nvPicPr>
              <p:cNvPr id="116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0" y="5715000"/>
                <a:ext cx="1122480" cy="100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0" name="Rectangle 4"/>
              <p:cNvSpPr/>
              <p:nvPr/>
            </p:nvSpPr>
            <p:spPr>
              <a:xfrm>
                <a:off x="961920" y="6000840"/>
                <a:ext cx="75391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와 노인복지정책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1" name="그룹 8"/>
            <p:cNvGrpSpPr/>
            <p:nvPr/>
          </p:nvGrpSpPr>
          <p:grpSpPr>
            <a:xfrm>
              <a:off x="285480" y="655200"/>
              <a:ext cx="8712360" cy="1561680"/>
              <a:chOff x="285480" y="655200"/>
              <a:chExt cx="8712360" cy="1561680"/>
            </a:xfrm>
          </p:grpSpPr>
          <p:sp>
            <p:nvSpPr>
              <p:cNvPr id="1172" name="AutoShape 2"/>
              <p:cNvSpPr/>
              <p:nvPr/>
            </p:nvSpPr>
            <p:spPr>
              <a:xfrm>
                <a:off x="285480" y="1051920"/>
                <a:ext cx="8641080" cy="1162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3" name="Text Box 6"/>
              <p:cNvSpPr/>
              <p:nvPr/>
            </p:nvSpPr>
            <p:spPr>
              <a:xfrm>
                <a:off x="356760" y="1071000"/>
                <a:ext cx="8641080" cy="11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범죄와 범죄피해에 대한 사회적 관심 낮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명당 범죄발생비는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,34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으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.7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죄유재산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7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력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9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1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 등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6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4" name="직사각형 14"/>
              <p:cNvSpPr/>
              <p:nvPr/>
            </p:nvSpPr>
            <p:spPr>
              <a:xfrm>
                <a:off x="318600" y="65520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에 의한 범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5" name="그룹 8"/>
            <p:cNvGrpSpPr/>
            <p:nvPr/>
          </p:nvGrpSpPr>
          <p:grpSpPr>
            <a:xfrm>
              <a:off x="285480" y="2298600"/>
              <a:ext cx="8712360" cy="1558800"/>
              <a:chOff x="285480" y="2298600"/>
              <a:chExt cx="8712360" cy="1558800"/>
            </a:xfrm>
          </p:grpSpPr>
          <p:sp>
            <p:nvSpPr>
              <p:cNvPr id="1176" name="AutoShape 2"/>
              <p:cNvSpPr/>
              <p:nvPr/>
            </p:nvSpPr>
            <p:spPr>
              <a:xfrm>
                <a:off x="285480" y="2695320"/>
                <a:ext cx="8641080" cy="1162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7" name="Text Box 6"/>
              <p:cNvSpPr/>
              <p:nvPr/>
            </p:nvSpPr>
            <p:spPr>
              <a:xfrm>
                <a:off x="356760" y="2714400"/>
                <a:ext cx="8641080" cy="10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대상 주요 범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매치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날치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사고 등으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범죄피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,36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으로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중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5%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재산범죄와 보이스피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해 경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죄 피해자의 특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학력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학력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파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8" name="직사각형 16"/>
              <p:cNvSpPr/>
              <p:nvPr/>
            </p:nvSpPr>
            <p:spPr>
              <a:xfrm>
                <a:off x="318600" y="229860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을 대상으로 한 범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9" name="그룹 8"/>
            <p:cNvGrpSpPr/>
            <p:nvPr/>
          </p:nvGrpSpPr>
          <p:grpSpPr>
            <a:xfrm>
              <a:off x="288720" y="3981240"/>
              <a:ext cx="8712360" cy="1805760"/>
              <a:chOff x="288720" y="3981240"/>
              <a:chExt cx="8712360" cy="1805760"/>
            </a:xfrm>
          </p:grpSpPr>
          <p:sp>
            <p:nvSpPr>
              <p:cNvPr id="1180" name="AutoShape 2"/>
              <p:cNvSpPr/>
              <p:nvPr/>
            </p:nvSpPr>
            <p:spPr>
              <a:xfrm>
                <a:off x="288720" y="4357440"/>
                <a:ext cx="8641080" cy="1429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81" name="Text Box 6"/>
              <p:cNvSpPr/>
              <p:nvPr/>
            </p:nvSpPr>
            <p:spPr>
              <a:xfrm>
                <a:off x="360000" y="4357440"/>
                <a:ext cx="8641080" cy="14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자리 창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기회의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범죄자에 대한 집행유예요건 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시설 확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특성에 맞는 개별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된 처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시설에서의 사회봉사 명령제 도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찰이나 노인복지기관 등에 의한 노인범죄 피해 대처방안 교육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료 법률상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82" name="직사각형 20"/>
              <p:cNvSpPr/>
              <p:nvPr/>
            </p:nvSpPr>
            <p:spPr>
              <a:xfrm>
                <a:off x="321840" y="398124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 범죄에 대한 대응방안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그룹 10"/>
          <p:cNvGrpSpPr/>
          <p:nvPr/>
        </p:nvGrpSpPr>
        <p:grpSpPr>
          <a:xfrm>
            <a:off x="0" y="0"/>
            <a:ext cx="9215280" cy="6423120"/>
            <a:chOff x="0" y="0"/>
            <a:chExt cx="9215280" cy="6423120"/>
          </a:xfrm>
        </p:grpSpPr>
        <p:pic>
          <p:nvPicPr>
            <p:cNvPr id="98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죽음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89" name="그룹 18"/>
            <p:cNvGrpSpPr/>
            <p:nvPr/>
          </p:nvGrpSpPr>
          <p:grpSpPr>
            <a:xfrm>
              <a:off x="252360" y="857160"/>
              <a:ext cx="8962920" cy="856080"/>
              <a:chOff x="252360" y="857160"/>
              <a:chExt cx="8962920" cy="856080"/>
            </a:xfrm>
          </p:grpSpPr>
          <p:sp>
            <p:nvSpPr>
              <p:cNvPr id="990" name="AutoShape 2"/>
              <p:cNvSpPr/>
              <p:nvPr/>
            </p:nvSpPr>
            <p:spPr>
              <a:xfrm>
                <a:off x="252360" y="857160"/>
                <a:ext cx="8820360" cy="856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91" name="Text Box 25"/>
              <p:cNvSpPr/>
              <p:nvPr/>
            </p:nvSpPr>
            <p:spPr>
              <a:xfrm>
                <a:off x="285480" y="857160"/>
                <a:ext cx="8929800" cy="78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은 죽음의 문제를 회피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는 죽음을 반금기 영역으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주하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죽음을 언급하는 것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경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不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간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18"/>
            <p:cNvGrpSpPr/>
            <p:nvPr/>
          </p:nvGrpSpPr>
          <p:grpSpPr>
            <a:xfrm>
              <a:off x="252360" y="2205000"/>
              <a:ext cx="8820000" cy="4218120"/>
              <a:chOff x="252360" y="2205000"/>
              <a:chExt cx="8820000" cy="4218120"/>
            </a:xfrm>
          </p:grpSpPr>
          <p:sp>
            <p:nvSpPr>
              <p:cNvPr id="993" name="AutoShape 2"/>
              <p:cNvSpPr/>
              <p:nvPr/>
            </p:nvSpPr>
            <p:spPr>
              <a:xfrm>
                <a:off x="252360" y="2205000"/>
                <a:ext cx="8820000" cy="4218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94" name="Text Box 25"/>
              <p:cNvSpPr/>
              <p:nvPr/>
            </p:nvSpPr>
            <p:spPr>
              <a:xfrm>
                <a:off x="323640" y="2276280"/>
                <a:ext cx="8643960" cy="41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death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살아 있는 상태의 종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과정이 종결되어 죽은 상태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환되는 전이과정의 결과물로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생할 수 없는 삶의 영원한 종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생에서 시작되는 삶 전체 과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광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시 삶을 회복할 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있는 가능성이 희박한 상황에 놓여진 상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의 유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30000"/>
                  </a:lnSpc>
                  <a:spcBef>
                    <a:spcPts val="18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호흡정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장정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공확대의 삼증후설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뇌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포가 불가역적 상태로 변화한 세포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법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사의 죽음 판정을 기초로 법적 절차에 의해 죽음을 인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명은 유지되나 인간으로서 기능을 전혀 할 수  없는 상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존엄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명치료 중단으로 자연스러운 죽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락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와 생명유지가 무의미하다고 판단되는 사람을 직간접적 방법으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통 없이 죽음에 이르게 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극적 안락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극적 안락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95" name="AutoShape 4"/>
            <p:cNvSpPr/>
            <p:nvPr/>
          </p:nvSpPr>
          <p:spPr>
            <a:xfrm>
              <a:off x="285480" y="1773360"/>
              <a:ext cx="43574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죽음과 임종의 개념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그룹 11"/>
          <p:cNvGrpSpPr/>
          <p:nvPr/>
        </p:nvGrpSpPr>
        <p:grpSpPr>
          <a:xfrm>
            <a:off x="214200" y="142920"/>
            <a:ext cx="8929800" cy="6286320"/>
            <a:chOff x="214200" y="142920"/>
            <a:chExt cx="8929800" cy="6286320"/>
          </a:xfrm>
        </p:grpSpPr>
        <p:sp>
          <p:nvSpPr>
            <p:cNvPr id="997" name="AutoShape 2"/>
            <p:cNvSpPr/>
            <p:nvPr/>
          </p:nvSpPr>
          <p:spPr>
            <a:xfrm>
              <a:off x="214200" y="1285920"/>
              <a:ext cx="8715600" cy="142848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8" name="AutoShape 29"/>
            <p:cNvSpPr/>
            <p:nvPr/>
          </p:nvSpPr>
          <p:spPr>
            <a:xfrm>
              <a:off x="214200" y="85716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에 부여하는 의미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9" name="Text Box 25"/>
            <p:cNvSpPr/>
            <p:nvPr/>
          </p:nvSpPr>
          <p:spPr>
            <a:xfrm>
              <a:off x="428400" y="1285920"/>
              <a:ext cx="871560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간의 제약과 종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세에서의 존재 소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無의 상태로의 전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생 또는 영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중한 것의 상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형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힘든 삶에서의 해방과 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섬뜩한 저승사자 또는 부드러운 성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별성 극복과 관계개선의 계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랑했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람과의 재결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연스러운 현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0" name="AutoShape 7"/>
            <p:cNvSpPr/>
            <p:nvPr/>
          </p:nvSpPr>
          <p:spPr>
            <a:xfrm>
              <a:off x="285480" y="142920"/>
              <a:ext cx="5857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죽음의 의미와 태도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1" name="AutoShape 2"/>
            <p:cNvSpPr/>
            <p:nvPr/>
          </p:nvSpPr>
          <p:spPr>
            <a:xfrm>
              <a:off x="214200" y="3139920"/>
              <a:ext cx="8715600" cy="214632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2" name="Text Box 25"/>
            <p:cNvSpPr/>
            <p:nvPr/>
          </p:nvSpPr>
          <p:spPr>
            <a:xfrm>
              <a:off x="428400" y="3220920"/>
              <a:ext cx="8501400" cy="19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의 보편성을 인정하면서도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신의 죽음만은 회피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정하려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들은 장례준비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전연명의료 의향서 작성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준비교육 등 좋은 죽음을 위한 준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말기 암환자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교의존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40%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과학 신봉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7%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에 대한 냉소적 태도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3%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양문화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와 조상의 음덕을 믿으므로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을 눈앞에 둔 노인 존중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독교와 천주교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로운 생명의 획득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영생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교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늘 삶과 공존하며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다른 존재로 환생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윤회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3" name="AutoShape 29"/>
            <p:cNvSpPr/>
            <p:nvPr/>
          </p:nvSpPr>
          <p:spPr>
            <a:xfrm>
              <a:off x="214200" y="271440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에 대한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4" name="AutoShape 2"/>
            <p:cNvSpPr/>
            <p:nvPr/>
          </p:nvSpPr>
          <p:spPr>
            <a:xfrm>
              <a:off x="214200" y="5715000"/>
              <a:ext cx="8715600" cy="71424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5" name="AutoShape 29"/>
            <p:cNvSpPr/>
            <p:nvPr/>
          </p:nvSpPr>
          <p:spPr>
            <a:xfrm>
              <a:off x="214200" y="528624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불안 영향 요인과 죽음준비교육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6" name="Text Box 25"/>
            <p:cNvSpPr/>
            <p:nvPr/>
          </p:nvSpPr>
          <p:spPr>
            <a:xfrm>
              <a:off x="428400" y="5715000"/>
              <a:ext cx="85726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건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환경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지지 등 영향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-1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좋은 죽음을 위한 죽음준비교육 프로그램 실시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사례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91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그룹 10"/>
          <p:cNvGrpSpPr/>
          <p:nvPr/>
        </p:nvGrpSpPr>
        <p:grpSpPr>
          <a:xfrm>
            <a:off x="252360" y="33480"/>
            <a:ext cx="8891640" cy="6110280"/>
            <a:chOff x="252360" y="33480"/>
            <a:chExt cx="8891640" cy="6110280"/>
          </a:xfrm>
        </p:grpSpPr>
        <p:grpSp>
          <p:nvGrpSpPr>
            <p:cNvPr id="1008" name="그룹 18"/>
            <p:cNvGrpSpPr/>
            <p:nvPr/>
          </p:nvGrpSpPr>
          <p:grpSpPr>
            <a:xfrm>
              <a:off x="252360" y="461880"/>
              <a:ext cx="8820360" cy="2420280"/>
              <a:chOff x="252360" y="461880"/>
              <a:chExt cx="8820360" cy="2420280"/>
            </a:xfrm>
          </p:grpSpPr>
          <p:sp>
            <p:nvSpPr>
              <p:cNvPr id="1009" name="AutoShape 2"/>
              <p:cNvSpPr/>
              <p:nvPr/>
            </p:nvSpPr>
            <p:spPr>
              <a:xfrm>
                <a:off x="252360" y="461880"/>
                <a:ext cx="8820360" cy="2395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0" name="Text Box 25"/>
              <p:cNvSpPr/>
              <p:nvPr/>
            </p:nvSpPr>
            <p:spPr>
              <a:xfrm>
                <a:off x="428400" y="533160"/>
                <a:ext cx="8573040" cy="23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Pattison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임종의 과정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급성위기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안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격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타협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성적 삶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두려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외로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슬픔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통제 상실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말기단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돈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안감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감동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K</a:t>
                </a: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ü</a:t>
                </a:r>
                <a:r>
                  <a:rPr b="1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bl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er-Ross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죽음 적응단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립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노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상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타협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울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용단계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2 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&lt;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생수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필독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.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의 말기 암환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상의 연구결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실경험 많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과 역할상실로 삶을 정리하고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을 생각할 시간이 많았던 노년기의 죽음 적응을 설명하는 데는 한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11" name="AutoShape 4"/>
            <p:cNvSpPr/>
            <p:nvPr/>
          </p:nvSpPr>
          <p:spPr>
            <a:xfrm>
              <a:off x="285480" y="3348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임종과 죽음의 단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12" name="그룹 9"/>
            <p:cNvGrpSpPr/>
            <p:nvPr/>
          </p:nvGrpSpPr>
          <p:grpSpPr>
            <a:xfrm>
              <a:off x="252360" y="3143520"/>
              <a:ext cx="8891640" cy="3000240"/>
              <a:chOff x="252360" y="3143520"/>
              <a:chExt cx="8891640" cy="3000240"/>
            </a:xfrm>
          </p:grpSpPr>
          <p:sp>
            <p:nvSpPr>
              <p:cNvPr id="1013" name="AutoShape 2"/>
              <p:cNvSpPr/>
              <p:nvPr/>
            </p:nvSpPr>
            <p:spPr>
              <a:xfrm>
                <a:off x="252360" y="3643560"/>
                <a:ext cx="8820360" cy="2500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4" name="Text Box 25"/>
              <p:cNvSpPr/>
              <p:nvPr/>
            </p:nvSpPr>
            <p:spPr>
              <a:xfrm>
                <a:off x="428400" y="3708360"/>
                <a:ext cx="8715600" cy="23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생각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시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행동을 포괄하는 개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연구와 실천에서는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“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발적 의도를 갖고 자신의 신체에 다양한 방법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해를 끼쳤으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망으로까지 이어지지 않은 행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”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규정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20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따르면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생각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.1%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자살사망자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,161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,392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 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당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1.7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.9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 증가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3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전체인구 자살사망률의 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1.62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배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OECD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당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8.4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비교할 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한국노인 자살사망률 가장 높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5" name="AutoShape 4"/>
              <p:cNvSpPr/>
              <p:nvPr/>
            </p:nvSpPr>
            <p:spPr>
              <a:xfrm>
                <a:off x="285480" y="3143520"/>
                <a:ext cx="43578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  </a:t>
                </a: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노년기의 자살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6" name="그룹 9"/>
          <p:cNvGrpSpPr/>
          <p:nvPr/>
        </p:nvGrpSpPr>
        <p:grpSpPr>
          <a:xfrm>
            <a:off x="252360" y="428760"/>
            <a:ext cx="8891640" cy="5862240"/>
            <a:chOff x="252360" y="428760"/>
            <a:chExt cx="8891640" cy="5862240"/>
          </a:xfrm>
        </p:grpSpPr>
        <p:sp>
          <p:nvSpPr>
            <p:cNvPr id="1017" name="AutoShape 2"/>
            <p:cNvSpPr/>
            <p:nvPr/>
          </p:nvSpPr>
          <p:spPr>
            <a:xfrm>
              <a:off x="252360" y="928440"/>
              <a:ext cx="8820360" cy="53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8" name="Text Box 25"/>
            <p:cNvSpPr/>
            <p:nvPr/>
          </p:nvSpPr>
          <p:spPr>
            <a:xfrm>
              <a:off x="428400" y="993600"/>
              <a:ext cx="8715600" cy="529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을 설명하는 이론은 사회학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학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태체계이론 등 매우 다양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자살위험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화 요인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남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령 높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교적 믿음 약하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별한 노인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성질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과 빈곤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우울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의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0-70%)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상생활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만족과 대처자원 부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스트레스 등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내 자살 및 정신장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아동기 정신상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갈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 및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관계망 위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지 결여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화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소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립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망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한 가족주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차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명인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기 침체와 실업률 증가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자살예방을 위한 개입</a:t>
              </a:r>
              <a:r>
                <a:rPr b="0" lang="en-US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적 개입전략을 선택 또는 통합 활용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편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1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체 노인의 신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기능 향상을 위한 건강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증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가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참여 등을 통해 욕구충족과 문제발생 최소화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택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2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 심화를 위한 조기진단과 치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처능력 향상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상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가서비스 등 제공과 클라이언트 발굴과 문제해결중심 개입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3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한 기능제한과 문제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기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학대경험 등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험군의 파국적 상황 노출 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활 및 지속적 사례관리서비스 제공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9" name="AutoShape 4"/>
            <p:cNvSpPr/>
            <p:nvPr/>
          </p:nvSpPr>
          <p:spPr>
            <a:xfrm>
              <a:off x="285480" y="428760"/>
              <a:ext cx="43578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년기의 자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그룹 9"/>
          <p:cNvGrpSpPr/>
          <p:nvPr/>
        </p:nvGrpSpPr>
        <p:grpSpPr>
          <a:xfrm>
            <a:off x="252360" y="428760"/>
            <a:ext cx="8891640" cy="6000480"/>
            <a:chOff x="252360" y="428760"/>
            <a:chExt cx="8891640" cy="6000480"/>
          </a:xfrm>
        </p:grpSpPr>
        <p:sp>
          <p:nvSpPr>
            <p:cNvPr id="1021" name="AutoShape 2"/>
            <p:cNvSpPr/>
            <p:nvPr/>
          </p:nvSpPr>
          <p:spPr>
            <a:xfrm>
              <a:off x="252360" y="928440"/>
              <a:ext cx="8820360" cy="5500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22" name="Text Box 25"/>
            <p:cNvSpPr/>
            <p:nvPr/>
          </p:nvSpPr>
          <p:spPr>
            <a:xfrm>
              <a:off x="428400" y="993600"/>
              <a:ext cx="8715600" cy="52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나홀로 사회로의 전환 과정에서 홀로 죽어서 시신이 방치되는 죽음 증가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개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척 등 주변사람들과 단절된 채 홀로 사는 사람이 자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병사 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으로 혼자 임종을 맞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신이 일정한 시간이 흐른 뒤 발견되는 죽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유형</a:t>
              </a:r>
              <a:r>
                <a:rPr b="0" lang="en-US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297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쪽 참조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고독사 통계자료 생산되지 않아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무연고 사망자 수로 추정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2020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년 무연고 사망자는 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2,880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명으로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2017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년부터 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4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년간 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천명 이상 증가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무연고 사망자의 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62%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정도가 노인이나 중장년층 무연고 사망자도 다수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미혼 독신가구 증가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이혼 증가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주말부부와 기러기 가족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가족과의 별거와 해체 등의 요인이 작용하므로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연령에 관계없이 증가 예측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독사 예방과 해결방안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동체사회 와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나홀로 사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지연을 위한 대책 수립 집행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복지제도 강화 및 복지사각지대의 중장년층 대책 강화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행 고독사 대응방안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앙 및 지방정부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맞춤돌봄서비스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연고자 장례지원서비스 등 실시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민간기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연고 사망자의 유류품 정리 회사 운영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독사 예방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독사 예방 기본계획 수립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독사위험자 지원대책 등 규정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23" name="AutoShape 4"/>
            <p:cNvSpPr/>
            <p:nvPr/>
          </p:nvSpPr>
          <p:spPr>
            <a:xfrm>
              <a:off x="285480" y="428760"/>
              <a:ext cx="43578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고독사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4" name="그룹 6"/>
          <p:cNvGrpSpPr/>
          <p:nvPr/>
        </p:nvGrpSpPr>
        <p:grpSpPr>
          <a:xfrm>
            <a:off x="214200" y="142920"/>
            <a:ext cx="8786880" cy="6215040"/>
            <a:chOff x="214200" y="142920"/>
            <a:chExt cx="8786880" cy="6215040"/>
          </a:xfrm>
        </p:grpSpPr>
        <p:grpSp>
          <p:nvGrpSpPr>
            <p:cNvPr id="1025" name="그룹 18"/>
            <p:cNvGrpSpPr/>
            <p:nvPr/>
          </p:nvGrpSpPr>
          <p:grpSpPr>
            <a:xfrm>
              <a:off x="214200" y="428400"/>
              <a:ext cx="8786880" cy="5929560"/>
              <a:chOff x="214200" y="428400"/>
              <a:chExt cx="8786880" cy="5929560"/>
            </a:xfrm>
          </p:grpSpPr>
          <p:sp>
            <p:nvSpPr>
              <p:cNvPr id="1026" name="AutoShape 2"/>
              <p:cNvSpPr/>
              <p:nvPr/>
            </p:nvSpPr>
            <p:spPr>
              <a:xfrm>
                <a:off x="214200" y="428400"/>
                <a:ext cx="8715600" cy="5929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27" name="Text Box 25"/>
              <p:cNvSpPr/>
              <p:nvPr/>
            </p:nvSpPr>
            <p:spPr>
              <a:xfrm>
                <a:off x="285480" y="745920"/>
                <a:ext cx="8715600" cy="55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‘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망치다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훔치다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잔인하게 박탈하다’라는 의미를 지니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으로       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하여 사랑하는 사람과 이별하는 과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애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별로 인하여 경험하게 되는 정서적 반응의 과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Rando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애도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R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응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경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포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조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삶에 에너지 투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Bowlby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애도 단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감각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리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란과 절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조정 단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애도기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월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2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이지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상의 전통에 근거할 때 약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애도의 유형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Wortman &amp; Silver)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애도기간과 정서적 고통의 관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정상적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 정서적 고통 높고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1-2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년 뒤 낮아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9-41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만성적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나 시간이 흐른 뒤나 고통 높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8-26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유예된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 고통이 낮지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간 흐른 뒤 강해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1-5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결여된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와 시간 흐른 뒤나 고통 낮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30-78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적으로 사별 직후 높은 수준의 정서적 고통 경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 이환 가능성 높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만족도 낮아지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망률과 자살률도 높아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젊은 나이 사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리고 경제적 의존성이 높을수록 적응 어려움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죽음 적응 지원을 위한 과제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00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, &lt;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상실수업</a:t>
                </a:r>
                <a:r>
                  <a:rPr b="0" lang="en-US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필독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28" name="AutoShape 4"/>
            <p:cNvSpPr/>
            <p:nvPr/>
          </p:nvSpPr>
          <p:spPr>
            <a:xfrm>
              <a:off x="285480" y="142920"/>
              <a:ext cx="46436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6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별과 애도과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그룹 9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sp>
          <p:nvSpPr>
            <p:cNvPr id="1030" name="AutoShape 2"/>
            <p:cNvSpPr/>
            <p:nvPr/>
          </p:nvSpPr>
          <p:spPr>
            <a:xfrm>
              <a:off x="285480" y="2428920"/>
              <a:ext cx="8715600" cy="3786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103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2" name="그룹 10"/>
            <p:cNvGrpSpPr/>
            <p:nvPr/>
          </p:nvGrpSpPr>
          <p:grpSpPr>
            <a:xfrm>
              <a:off x="357120" y="1780920"/>
              <a:ext cx="8643960" cy="4332600"/>
              <a:chOff x="357120" y="1780920"/>
              <a:chExt cx="8643960" cy="433260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357120" y="1780920"/>
                <a:ext cx="4286160" cy="647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호스피스의 개념과 발달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34" name="Text Box 6"/>
              <p:cNvSpPr/>
              <p:nvPr/>
            </p:nvSpPr>
            <p:spPr>
              <a:xfrm>
                <a:off x="357120" y="2626920"/>
                <a:ext cx="8643960" cy="348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의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행자나 손님을 따뜻한 마음으로 접대하는 장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세시대는 순례자와 여행자의 휴식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Saunders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67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t.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hristoper Hospice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립으로 현대적 호스피스 시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한국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65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‘마리아의 작은 자매회’에서 처음 소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 대형병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단체에서 설립 운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2021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월 현재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5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 호스피스 기관 운영 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호스피스는 장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돌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태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철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등으로 정의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죽음을 앞둔 말기 환자와 그 가족을 사랑으로 돌보는 행위로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가 남은 생애를 고통없이 인간답게 삶의 질을 유지하면서 생을 정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게 하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들의 고통과 슬픔을 경감할 수 있도록 돕는 총체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케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holistic care)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35" name="Rectangle 2"/>
            <p:cNvSpPr/>
            <p:nvPr/>
          </p:nvSpPr>
          <p:spPr>
            <a:xfrm>
              <a:off x="1571400" y="21420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호스피스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(hospice)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36" name="Text Box 25"/>
            <p:cNvSpPr/>
            <p:nvPr/>
          </p:nvSpPr>
          <p:spPr>
            <a:xfrm>
              <a:off x="214200" y="855360"/>
              <a:ext cx="8929800" cy="74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간 경시 풍조의 확산 방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임종자의 고통 경감과 욕구 충족을 지원하기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한 방안으로 임종간호 즉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호스피스 등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43:40Z</dcterms:modified>
  <cp:revision>452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